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E55-6311-4A5F-98EE-58DFF4A8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9A7-046A-4766-967E-B985E75D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45F5E-4CAE-48BE-921A-0ACF7EE1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FC49C-0732-457A-BC74-C08C59C7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F6480-5297-4845-9A84-B56C997C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B2ADA-7AF4-41EF-AFA7-8742ECE1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58B45-B213-406D-AB17-3BF2953D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65561-AAD8-4858-94F5-FBC129CD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8F388-1B37-470F-9786-FA45B876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154F5-0516-435C-B1AA-7675F56E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357B1-9A47-4C5D-B5AC-DA0DD67B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75818-389B-4960-A3E4-A72484FC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ABE-1AC3-4F24-88C8-BEF935B8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E6F57-3C1E-4CAC-ABC8-94B97CEA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E6176-68E2-4489-BA4D-590262E5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349F2-53CC-4644-BD53-E06B4713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84D4D-1A86-4ADA-B525-4E25BCB9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34C76-C238-48C2-8921-B7274861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15ABD-7352-4059-B264-183C3380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E2A60-31BE-4F07-9462-356F9273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43914-94EA-4C50-AAAD-C0C84228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4EFCD-C1FF-444B-8D46-22339E1C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A2AA8-FE07-4249-98BB-942A1B42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FC2-7A32-44D9-AF24-31443532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90AB9-09B2-4EB0-ADF1-9B8CD308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96E45-D700-47BC-92F7-FCB3DA7C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DE1E4-94E7-4F2F-8E48-0806C91A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A3DD8-36ED-4E24-ADC4-7F4E7D6F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EC946-35DC-4A13-81DE-35F2659C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68613-0E14-4791-86E2-96BD1FD4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91E91-124D-4A94-8C6B-F3F482B5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78DE2-A6DF-443A-8052-4EF70374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C625E-32AA-4B1D-AC63-1089A55F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1AA28-7D2A-4DB4-9C73-47B29975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843A-5C86-4550-B371-73F31798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9755D-0273-4B31-9B78-F9C6414A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38B8E-F518-4247-8A54-6F8A3EBF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BEBB6-CCB1-43CE-8596-08434E2C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4ED7B-9874-47D1-B4B7-EDB93A7F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F2CF5-0F09-415B-93F8-75BAF5BB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59AA4-5529-4593-A7EF-7765D055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8EEC2-A7F2-4F21-A753-73666006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68ABC-5714-4141-BA06-A9C854C2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3EEDE-0AC1-4758-A221-05CBDF68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61471-02A0-496B-9EF3-B3714492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1302-E00D-4197-A75C-D6D5CDF6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C33A6-982C-42F7-A2FA-153BD039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02926-7A82-4CE8-8DCD-724FE3FC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20ABC-B2A1-4481-BF65-102AD7E2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1EBDC-66B2-4E2E-B2BD-6493A3E6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0EA56-2E27-4784-93E3-3F3572E7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8F6C8-B13E-47C4-BB2F-0CE75877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310D7-81DF-48A5-8ACB-6ACF7AB5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A7562-B7E5-4977-A21E-24D5693D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2F8A9-86C8-47B8-9553-41889A08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4FD7F-3D41-4EC9-AE3B-4247B444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7409-C85B-48B5-9165-B3668403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04C37-15E8-4F24-BEA7-36FBB3D8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E1B28-963E-4D32-9C1C-FB1B4A30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846FF-17ED-423B-B25A-BC71757A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40380-77C5-420B-B429-9AE6FA7B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9F86E-967F-4851-A4BB-38B15D06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57715-239B-4FEA-92A7-44B91C1F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75DA7-08A1-406F-892C-4012ACD5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3C94C-2F24-4203-964E-4C89CB9F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59C30-653B-4A63-B7D4-CD9C8E58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B94E7-E2FD-45CF-A9E1-9CC235DA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2AEA-8BF2-4243-82CA-25C911EE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986DE-8187-4F7E-A7C7-F284FE3A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B5AEEC-CCAA-4295-91FB-36392D28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7ED12-8BDC-4FE1-8942-09AA8889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AB5E2-F279-4C56-BA6D-D8564330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4A1900-4CDE-4EF8-8C07-B4F86835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4B46C0-5CB5-4191-B715-4BBA257C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C87BA0-8F3B-4478-9969-0FB679C1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E106F8-E824-4F30-AF7C-8A8A2406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52E862-2EE2-4BA2-97D9-B908E10B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2A855C-3CA1-4724-8D40-221C30B3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42FA-D191-4AEA-8066-742A2603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9BB0CF-97EC-44DA-8F55-4673F5B1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5FC70A-3180-46BF-B780-752BD961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46C9DC-28EC-4D4A-994B-1F3605D9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4DB4A-3A19-4FCE-A02D-DCD2D14C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70F83-9AB2-417C-A5AD-B7489B3F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AF9BB-7D77-4331-993B-28A85988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A44583-8E40-45F9-9AF6-5AF734D5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04B1FD-843B-4741-AEB8-CC3C010D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DF192E-A8CC-4977-87FF-2EF9C9B5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4EAE8A-4A21-4888-B6EA-29B5B6DA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83AC-6B16-466A-8831-E48D37F8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D3AE2-C118-4D36-B5AA-73385399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DB41C0-2461-4B7A-82FD-196C0A3A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044147-F196-4AB3-82D2-5A44DEC2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010253-4373-489B-9E7F-B6EE2342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BF2AC0-9C15-416C-8516-F3FE6798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72694-4598-4042-8ED1-3923144D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135E19-81E9-4F3B-A2E8-5A293490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74020C-B2CF-43E9-B27F-0860C28E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65E02D-D580-43CC-A1FE-A16E09D1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EF437F-7007-43B1-AD8D-CD7C80CC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3170-4307-4157-95FF-3B9F501A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EB918-3C99-40D4-A7FA-8528E56D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EA3C4B-6ED9-4A70-8CDB-953BFA0F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1750F8-5C70-41B2-9D89-1FF3486B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1EF7C8-EC6A-46AD-BAA5-0DC8EC85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9D26AF-1CB2-4727-93BF-81FB8E7F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D35CA2-F08B-45E4-BCEA-721B25DA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B72B96-A994-4535-BFC5-88592D0A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65E593-B803-4E05-B970-F9B7739F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CF404A-2B33-43E3-9EA4-09E795C4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93D577-3F32-453B-875C-31E68483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378-3B5F-4468-B503-8B7C37C3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F3F6-724F-4151-A752-D6A5CA4E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4B34A2-47EF-4E6E-9368-32F29EE9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F28916-79CA-4936-82CC-7E7B3E4F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9A754D-24DC-4836-80C3-25306DEC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05DB5-59D0-40CC-905D-D5E82274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479363-E844-4E0A-BB67-D0EF2B31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A4BC30-7F9F-4BEC-9E86-87CCE451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E8B437-5371-4696-A498-A2683BF5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41DE95-C84A-4AAB-BE02-04196E7B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A2BDB6-9EBA-4470-A8C8-D34A89D9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3027AE-3A1D-432C-8B8C-733908A0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26B1-F46B-437D-8ED3-527C2886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1DCF2C-B27B-4D8A-9E33-379D5544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3597CC-4805-4360-B21D-E55F9622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2DA021-0E50-4112-B2FA-0983E233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09A94E-C6DE-42C5-ADE2-7BDC8F00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E199BE-5B35-4577-A5CD-D775323B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0DACC3-060E-4FD1-8618-82026A64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3B9F71-3C6B-41A1-B6CC-0CF7A7B7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7F1100-5955-4D21-8F81-D482AD54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675804-AF5D-4B46-B61C-5A47775B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DF3943-F35E-4403-901F-3135AB8B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214F-EBBA-458E-A5BF-4147CF88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1483E3-07A9-4AE2-8F98-8375C384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EE39C7-93FE-4533-B76E-0294DCC8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56D014-CBBE-49DA-B36E-A8ADA223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FDECEC-4645-4B93-B45D-1E804313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EC528F-C993-4E44-9708-0650AE9E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25FA89-0BDD-4EEF-B51E-41FD0268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B30792-D0A0-4A34-84FA-4243382A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2CDE35-9E6E-4069-9D72-21CD9803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068981-8F9F-428C-9336-8C885B9E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55AFFD-0626-454D-8B14-5DA00EE1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988F-DF56-43F8-9978-D99B34E1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47AB96-F537-4AD6-8E8A-CE993639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9B4B06-B50F-4658-AF65-C9FF7D30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A29C33-2E80-4FC6-A2BD-59BFBF48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7CD807-5053-4D59-B85D-4FA40353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935E50-4BCD-4EC1-9D17-5611C12C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EDD623-5D7E-408B-9711-F1C77310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B07F64-CADC-4703-A5AF-3771CCF7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13E2C8-F0B8-4D8B-AAA5-68C19A06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1D47CA-0D8D-45D1-8497-5CAC81EB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FBCCC9-5989-4A8A-808B-4EE789D8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B8D6-7C6A-473E-A00F-A0CBCFEB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594E23-1E61-40E9-853F-87C8C140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51408B-C6AC-461A-BE5C-1CF6E17D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A20C2F-2463-4ABB-ACE9-D71BAB2B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15B04E-E42B-4BB4-93E4-F6A3AB33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74B32B-B430-4311-AE01-253D8312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3AB25C-50DA-4D4C-ABA5-AB19BA28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AFCF15-835A-48CE-876B-9E35F9AA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262F9A-CCDA-4674-B610-CF265784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325FC0-4969-437E-8A4A-448A441F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638196-F87A-4F7C-B011-1AE9A518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9F43E-F4CB-4FED-A909-8C1CE6C4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EA4309-7444-432C-946F-AB18A3AB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03C99A-EF00-47F5-9DD9-9A067D7F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130883-E4EE-4BBD-B2B7-8E3F3866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E2074C-8D9F-45A5-9D42-92AED227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EB012C-29B5-4365-9517-B6B144A3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55C247-83A6-42EA-AEDF-E52A961B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634AE1-725E-4D11-A617-C894C72C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7B0F1D-3DA5-4CA5-88CE-0B75F867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063716-FEF4-4B98-AB42-212A2DC3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06848B-4ED1-4061-B747-2F2847C2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FD6AA-C0E3-4A93-BBAD-B445ECC3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2012C1-ABB4-49BE-AF67-6B6EABC5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EA70DA-DF4D-4076-ADB4-79EAAC47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980748-84BA-48C7-9AB6-D04EA772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3C701D-8917-4845-82CA-F74B70B1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BC8A2F-E12E-41A8-947A-59A96145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AA0B5E-1121-4DA4-B973-F3833AC0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F2A09E-590C-4AB7-B944-CE7A27D6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1CB952-3838-4749-A41E-C7FEAD7A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040252-B0CB-4FFC-A27D-7459E055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CB3F89-60C2-40ED-BFDD-C8A02186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20380-3904-4994-BE41-0BF2B936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63C3FD-EEE1-4DDD-9780-5B4659D3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9B4FDB-E87B-429F-BB04-AB3339F6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1B7B16-F501-4A5B-BF16-E82F9216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5EDF8C-6C5E-4B78-9247-4ACB431E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7371D6-AECF-4840-B8A1-6D0A2B9E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6936D3-5ACB-4F03-A82F-EA4FAF7A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80623C-76B2-4C3D-830B-B8CA9F9B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B93A9A-6695-47F9-9EBC-9A450AFF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D05FAA-5929-41FF-BA88-5020E8FD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43D8D8-0E11-4CA4-B6BF-A62DDDBE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5BD7A-F01F-48AB-A8FE-16E384B1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8979FB-E258-4948-B8FC-A4C2F781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45AD18-2346-43CC-9C03-1B3D11DC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23BBAF-D7CF-4CEA-904A-11E35292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D61AE8-3255-43C5-BB67-E3ACD251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0EE34A-3B8F-41CD-BF6C-6F350114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0B6F6D-0B13-499D-864E-ED66DF7B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727617-F0FE-4C83-AA77-3FA0CB40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9C66B7-087E-48DD-82EB-BF8B9673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4C7640-11E1-48FF-9629-53A43B0F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35EE3-D646-4F10-B60A-0F0A25CE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B60-353C-4F38-8D45-E256F7E1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8C83E-7817-43A3-9518-ED1AFC7F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8C513-0947-4077-BD24-9244862C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9D8C7-CD2C-4A06-8CA9-DD3B3F91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D1225-8A5B-4CCD-8088-BF604028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DDAF6-4856-479E-84AF-5EBA9A13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A44A9-C7FA-471D-8D22-7B433988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559D8-7533-44AF-B943-723F9832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FBD2F-2A32-4DF9-A6AD-B4DE70B6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0582E-8C69-42F1-9225-95A529D8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6379A-C239-4A67-A902-28B8FB97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C77-70EA-4CD7-BBAB-B21ACD8A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FFB59-0A0E-417A-842E-89B438DC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C7B2B-7718-45AD-8AA1-4F7D53FD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BE8E4-8C13-4B32-8D8D-04DEFBC1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5D90A-931D-446A-B768-BCC5D2FF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ED646-7804-4693-A220-52890AE9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FC807-1C1E-4FC7-AED0-DCFA62AC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C6495-8435-4521-952A-CDEDCFB0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8688B-3B81-440D-B93C-B2CBBD4C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C982D-E46D-4114-B883-DA640F9A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B5647-ECB6-4C54-A025-F3EC540C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A1E-312A-44FD-B862-BFEC40AA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A1184-C7F9-45E2-9BF7-53EC8C2B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9149A-247E-4E68-A577-D4B7AE3E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18E57-C9E5-4CB8-BBED-85CC9BE0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8B956-8216-4DA0-8C72-95CA0110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89787-421B-4508-842B-D6FEC75D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96790-46BF-4294-BF2A-9EA4DB15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084DF-D150-47C5-ADE1-B70DEE0B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8ED57-78F6-48C6-A718-06208D84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F9F11-50FD-4ACD-893B-F253F03B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EA39E-0136-4CE1-9FC1-4F4E73FD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5DEA-84C8-4CB8-A05F-55A84E8C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C1544-287F-46AC-8DA4-A4F4D0CD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6A262-154F-4E38-819A-282A2633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AFAA8-921F-4E10-93DB-D28F30E6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921E1-B072-406D-A1B9-6ABC4C3D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00020-844A-4FA6-A66E-59E8D63A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3BD18-FF71-4683-B863-558187B0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AB2A8-3E61-4B52-994A-33223A92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1E494-33DD-4C1A-A56A-10710586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60541-E9D5-4136-B54A-D83C2175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479BE-5DBB-4EEE-940F-BAC6650E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21A-5670-4AC4-A579-1B847801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12917-CEA2-48F6-AB16-338D195C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74DCC-572D-446B-B016-FB027D85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7AFD3-8C5A-470B-9109-1EEDEEA9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65B0A-6A4C-4175-BF1B-A753A59C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EE575-58C7-4C47-AAFB-02A4C207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E10CD-C276-4754-A7F6-ED0AD4D6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F6B3C-AF8C-4F52-8401-4969E060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47439-ABA7-4D6C-812B-7BD80E75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D4FF5-69C3-4869-9EFE-61500DDE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DE595-269C-40DC-AA34-342D556D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C59-16FE-4EEB-97AB-2D73B5E3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08EEA-9002-462C-86DF-64123CCF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1AF96-5DF7-4B49-826D-30EEAA5F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72AF0-0ECC-4AB9-B99E-8B49DC2F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6BBB7-FABE-4E00-AA42-E3449986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CC217-9336-4A55-8B06-76B20D69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EB49C-C45C-491F-8152-26571EA8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9F616-CE79-4DAC-8310-5DDE5762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80843-100B-4D05-B8D4-20C26C3F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32CEF-A22F-452D-A443-E3DBC0AA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36F76-1961-4468-894C-0BC6FE70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CDF-8002-4A52-968B-A63137C8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A12F6-866C-4BCC-BC60-800CB9C9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ACC2B-1E6A-4592-B8FF-00352FB7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F4222-5B28-4658-938D-818C778E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16EC7-1D92-4587-AD6F-60686195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2811E-CBDA-4902-AF31-622FBBAA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F88D2-55F3-415A-8294-A57B5EC9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48C31-0CF0-4750-B058-A2C27B78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C4758-7400-44B9-AFFA-DF8E2FEE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5B779-CB1B-4660-9237-0AF5492A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FC347-7227-4D31-8933-CF0F96DF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9319-F3CA-4518-93EC-599D7564460B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340D-5E60-423E-AB5A-F64223B57EC5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79C5-0E6C-42D5-AD84-C67906967306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9D33-83FB-4F67-A0D5-6DA5DBD5DCD6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68B9-201E-4BA8-9B7D-53F66B243F02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2B4D-948B-4CB6-BBB9-65F557C8E8A7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E275-50D1-4AAE-8FC1-012CEDA9B50C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2E45-68C4-472C-AA9E-75C28F1958E9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D35A-E77C-42B4-93EF-7E86C01A35CA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A799-6455-48D9-BE5F-369D6CCC6BCD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4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32B6-FCAA-41FF-9D69-75D5885B32F7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C167-405E-452E-B965-560D559CE76A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6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7ADD-E48F-4BFC-9775-CA4CB27ED51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F683-AB8F-439E-81FA-CA62890FBA1A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1136-E4AF-433F-B9D9-1564E39DFAFE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CF54-FC94-45E1-8CDE-573618F0C940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77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A4B3-FEA7-440C-ABD2-CA7FA878390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3B8D-5E0E-4312-8BCC-458438CE79D9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690D-3997-4A77-844A-4ACF9516ED7C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21C5-4EB1-40E2-907D-DC29301E3B93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0EDE-5F02-4390-8906-8480E00D32D0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A5A3-B4C3-4290-A8EB-28FA57B585CA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671F-554A-432A-AB43-FBE779DE8F37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F513-2098-4D47-8CD6-0E7B701F1467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8B6B-CD5C-4EB5-9B1E-DDB88AA92C37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9A53-ADAD-478B-885C-83441F9B1E52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B1FD-D6ED-479E-8345-1B79BB8610DE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C350-DE7D-4EEF-A887-E0CDA0C4F311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1236-64F9-4E57-BA1A-32398D5028D2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AB7C-DFC6-4487-A2E7-1312D6796EAA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4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9BF8-28A4-45C9-838C-6F103FE287ED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DC3F-3A31-4FBB-8F8E-AC133A57A946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7FA8-3913-44E1-AC59-4C4C524246E7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2EA0-3C61-4CA9-92E0-245D628C2C70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8103-F780-4652-B2A3-6E67F7993790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94CB-A005-4534-999D-E329D0B72CFA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81E3-F16B-4EAE-8712-F5D2A87E471C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7904-66B9-4DBF-BB08-E5F44B02E7C8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2838-B334-4FB6-8936-27160ED77895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F51A-5A68-4660-9B66-A32FA7C942F0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EF98-E5BE-45AB-8E4A-59ACD3A7F00B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DE62-72C7-4B13-BF8A-5B0061F62098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5A19-CEC6-4695-A333-1BAE0CFF1D65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222A-B175-4836-9DE6-4EE87ADD7A44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BBDF-85BD-4AB4-98A1-11A9F081CC0D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BDCB-D8CF-4CF9-BF28-0B304B9B5A61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FDD6-1E73-451D-8270-57CBE6F936BA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7A17-ECD1-42F1-BE7E-5E55ED298C7A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Title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255160" cy="22431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285480" y="1571400"/>
            <a:ext cx="8643960" cy="4786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293a"/>
                </a:solidFill>
                <a:latin typeface="Constantia"/>
              </a:rPr>
              <a:t>Obiecti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enumerarea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descrierea completă a tuturor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prezentarea tuturor tipurilor de fluxuri de circulaţie a clienţilor în sala de vânzar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tabilirea corectă a fluxului mărfurilor şi ambalajel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F2C7-C7C7-48A5-B0E3-48D45D1DC775}" type="datetime">
              <a:rPr b="0" lang="ro-RO" sz="1400" spc="-1" strike="noStrike">
                <a:solidFill>
                  <a:srgbClr val="000000"/>
                </a:solidFill>
                <a:latin typeface="Constantia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05CA-CA83-4F6C-BF72-9C7E4E1568BA}" type="slidenum">
              <a:rPr b="0" lang="ro-RO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603360" y="-517680"/>
            <a:ext cx="7711920" cy="2102040"/>
          </a:xfrm>
          <a:prstGeom prst="rect">
            <a:avLst/>
          </a:prstGeom>
          <a:ln w="0">
            <a:noFill/>
          </a:ln>
        </p:spPr>
      </p:pic>
      <p:pic>
        <p:nvPicPr>
          <p:cNvPr id="1135" name="Content Placeholder 2" descr=""/>
          <p:cNvPicPr/>
          <p:nvPr/>
        </p:nvPicPr>
        <p:blipFill>
          <a:blip r:embed="rId2"/>
          <a:stretch/>
        </p:blipFill>
        <p:spPr>
          <a:xfrm>
            <a:off x="689040" y="414360"/>
            <a:ext cx="8540640" cy="9345600"/>
          </a:xfrm>
          <a:prstGeom prst="rect">
            <a:avLst/>
          </a:prstGeom>
          <a:ln w="0">
            <a:noFill/>
          </a:ln>
        </p:spPr>
      </p:pic>
      <p:sp>
        <p:nvSpPr>
          <p:cNvPr id="1136" name="Date Placeholder 3"/>
          <p:cNvSpPr/>
          <p:nvPr/>
        </p:nvSpPr>
        <p:spPr>
          <a:xfrm>
            <a:off x="4572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2241-9AC3-451F-B406-6EEF990C9EA8}" type="datetime">
              <a:rPr b="0" lang="ro-RO" sz="1600" spc="-1" strike="noStrike">
                <a:solidFill>
                  <a:srgbClr val="03231b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8001000" y="6357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7842-7B90-4462-9195-BD147E257846}" type="slidenum">
              <a:rPr b="0" lang="ro-RO" sz="1600" spc="-1" strike="noStrike">
                <a:solidFill>
                  <a:srgbClr val="03271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87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2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BA69-9A4F-45B0-BEAE-06193F1CDE82}" type="datetime">
              <a:rPr b="0" lang="ro-RO" sz="1600" spc="-1" strike="noStrike">
                <a:solidFill>
                  <a:srgbClr val="1f250d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2B8E-2151-4BC4-AA8E-5A215C549648}" type="slidenum">
              <a:rPr b="0" lang="ro-RO" sz="1600" spc="-1" strike="noStrike">
                <a:solidFill>
                  <a:srgbClr val="1d220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5"/>
          <p:cNvSpPr/>
          <p:nvPr/>
        </p:nvSpPr>
        <p:spPr>
          <a:xfrm>
            <a:off x="242892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13840" y="142560"/>
            <a:ext cx="864396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.Mărimea magazinului şi particularităţile lui constructive</a:t>
            </a:r>
            <a:r>
              <a:rPr b="1" i="1" lang="ro-RO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93a"/>
                </a:solidFill>
                <a:latin typeface="Constantia"/>
              </a:rPr>
              <a:t>Sfat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intrarea în magazin să fie orientată spre strad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eschiderea uşilor să se facă în sensul fluxului clienţilor (spre stânga) la magazinele cu autoservir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este de preferat ca pent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uşa de ieşire să existe o uş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istinctă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5"/>
          <a:stretch/>
        </p:blipFill>
        <p:spPr>
          <a:xfrm>
            <a:off x="4929120" y="307188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9f44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BF42-568B-4D72-B4E8-3C2D895F5970}" type="datetime">
              <a:rPr b="0" lang="ro-RO" sz="1600" spc="-1" strike="noStrike">
                <a:solidFill>
                  <a:srgbClr val="02232c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A20B-83F2-4F1D-94B7-1601072BE3DF}" type="slidenum">
              <a:rPr b="0" lang="ro-RO" sz="1600" spc="-1" strike="noStrike">
                <a:solidFill>
                  <a:srgbClr val="01202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85840" y="357120"/>
            <a:ext cx="85723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I. Dispunerea mobilierului comercial în sala de vânzare, în legătură directă cu formele de vânzare practicate în magaz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	</a:t>
            </a: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În magazanele cu autoservire, gondolele pot fi orientate în diferite mod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a) în lungul axei longitudinale a sălii de vânz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Gondole (mobilier de expun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a produsel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    </a:t>
            </a: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- case de marc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tretch/>
        </p:blipFill>
        <p:spPr>
          <a:xfrm>
            <a:off x="5000760" y="3143160"/>
            <a:ext cx="3936960" cy="27147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6"/>
          <p:cNvSpPr/>
          <p:nvPr/>
        </p:nvSpPr>
        <p:spPr>
          <a:xfrm>
            <a:off x="1214280" y="3357720"/>
            <a:ext cx="3143520" cy="142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1214280" y="371484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1214280" y="407196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"/>
          <p:cNvSpPr/>
          <p:nvPr/>
        </p:nvSpPr>
        <p:spPr>
          <a:xfrm>
            <a:off x="1214280" y="442908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1214280" y="478620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traight Connector 12"/>
          <p:cNvSpPr/>
          <p:nvPr/>
        </p:nvSpPr>
        <p:spPr>
          <a:xfrm>
            <a:off x="500040" y="33577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traight Connector 14"/>
          <p:cNvSpPr/>
          <p:nvPr/>
        </p:nvSpPr>
        <p:spPr>
          <a:xfrm>
            <a:off x="4857840" y="3357720"/>
            <a:ext cx="0" cy="15714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500040" y="49291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traight Connector 20"/>
          <p:cNvSpPr/>
          <p:nvPr/>
        </p:nvSpPr>
        <p:spPr>
          <a:xfrm>
            <a:off x="500040" y="3357720"/>
            <a:ext cx="0" cy="100008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traight Connector 21"/>
          <p:cNvSpPr/>
          <p:nvPr/>
        </p:nvSpPr>
        <p:spPr>
          <a:xfrm>
            <a:off x="500040" y="4714920"/>
            <a:ext cx="0" cy="2858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8" name="Straight Arrow Connector 30"/>
          <p:cNvCxnSpPr/>
          <p:nvPr/>
        </p:nvCxnSpPr>
        <p:spPr>
          <a:xfrm>
            <a:off x="428760" y="457200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9" name="Rectangle 34"/>
          <p:cNvSpPr/>
          <p:nvPr/>
        </p:nvSpPr>
        <p:spPr>
          <a:xfrm flipV="1" rot="5400000">
            <a:off x="3977640" y="4047840"/>
            <a:ext cx="1571400" cy="189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0" name="Straight Arrow Connector 35"/>
          <p:cNvCxnSpPr/>
          <p:nvPr/>
        </p:nvCxnSpPr>
        <p:spPr>
          <a:xfrm flipV="1">
            <a:off x="4500720" y="3642840"/>
            <a:ext cx="10080" cy="347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1" name="Straight Arrow Connector 36"/>
          <p:cNvCxnSpPr/>
          <p:nvPr/>
        </p:nvCxnSpPr>
        <p:spPr>
          <a:xfrm flipV="1">
            <a:off x="4500720" y="4357440"/>
            <a:ext cx="2160" cy="357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2" name="Straight Arrow Connector 37"/>
          <p:cNvCxnSpPr/>
          <p:nvPr/>
        </p:nvCxnSpPr>
        <p:spPr>
          <a:xfrm>
            <a:off x="1356840" y="471492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3" name="Straight Arrow Connector 40"/>
          <p:cNvCxnSpPr/>
          <p:nvPr/>
        </p:nvCxnSpPr>
        <p:spPr>
          <a:xfrm>
            <a:off x="1356840" y="400068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4" name="Straight Arrow Connector 41"/>
          <p:cNvCxnSpPr/>
          <p:nvPr/>
        </p:nvCxnSpPr>
        <p:spPr>
          <a:xfrm flipH="1" flipV="1">
            <a:off x="1213920" y="4357440"/>
            <a:ext cx="3144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5" name="Straight Arrow Connector 44"/>
          <p:cNvCxnSpPr/>
          <p:nvPr/>
        </p:nvCxnSpPr>
        <p:spPr>
          <a:xfrm flipH="1" flipV="1">
            <a:off x="1213920" y="3642480"/>
            <a:ext cx="31442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6" name="Straight Arrow Connector 47"/>
          <p:cNvCxnSpPr/>
          <p:nvPr/>
        </p:nvCxnSpPr>
        <p:spPr>
          <a:xfrm flipV="1">
            <a:off x="1071720" y="3999960"/>
            <a:ext cx="10080" cy="34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7" name="Rectangle 48"/>
          <p:cNvSpPr/>
          <p:nvPr/>
        </p:nvSpPr>
        <p:spPr>
          <a:xfrm>
            <a:off x="785880" y="350028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9"/>
          <p:cNvSpPr/>
          <p:nvPr/>
        </p:nvSpPr>
        <p:spPr>
          <a:xfrm>
            <a:off x="785880" y="378612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0"/>
          <p:cNvSpPr/>
          <p:nvPr/>
        </p:nvSpPr>
        <p:spPr>
          <a:xfrm>
            <a:off x="785880" y="41432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1"/>
          <p:cNvSpPr/>
          <p:nvPr/>
        </p:nvSpPr>
        <p:spPr>
          <a:xfrm>
            <a:off x="428760" y="60008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52"/>
          <p:cNvCxnSpPr/>
          <p:nvPr/>
        </p:nvCxnSpPr>
        <p:spPr>
          <a:xfrm flipH="1" flipV="1">
            <a:off x="785520" y="3428640"/>
            <a:ext cx="348480" cy="7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2" name="Straight Arrow Connector 54"/>
          <p:cNvCxnSpPr/>
          <p:nvPr/>
        </p:nvCxnSpPr>
        <p:spPr>
          <a:xfrm>
            <a:off x="642960" y="3499920"/>
            <a:ext cx="1008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3" name="Straight Arrow Connector 56"/>
          <p:cNvCxnSpPr/>
          <p:nvPr/>
        </p:nvCxnSpPr>
        <p:spPr>
          <a:xfrm flipH="1">
            <a:off x="641160" y="3930120"/>
            <a:ext cx="216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4" name="Straight Arrow Connector 59"/>
          <p:cNvCxnSpPr/>
          <p:nvPr/>
        </p:nvCxnSpPr>
        <p:spPr>
          <a:xfrm flipH="1">
            <a:off x="285120" y="4428000"/>
            <a:ext cx="338760" cy="1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a573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285840" y="6356520"/>
            <a:ext cx="1071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5B72-9241-4EEE-B322-F033A4A17856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F9B4-4F78-407D-98C2-0B161A8E279E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14200" y="285840"/>
            <a:ext cx="8715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c3e"/>
                </a:solidFill>
                <a:latin typeface="Constantia"/>
              </a:rPr>
              <a:t>b) </a:t>
            </a: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pendicular pe axa longitudinală  a sălii de vânzare – fluxul clienţilor este orientat astfel încât punctul de plecare să corespundă cu punctul de sosire. Numărul rândurilor de gondole dispuse pe mijlocul suprafeţei de vânzare trebuie să fie imp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În magazinele cu vânzare clasic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mobilierul poate fi dispus de-a lungu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eţilor  şi în mijlocul sălilor de vânz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8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262320" cy="2136600"/>
          </a:xfrm>
          <a:prstGeom prst="rect">
            <a:avLst/>
          </a:prstGeom>
          <a:ln w="0">
            <a:noFill/>
          </a:ln>
        </p:spPr>
      </p:pic>
      <p:sp>
        <p:nvSpPr>
          <p:cNvPr id="1179" name="Straight Connector 7"/>
          <p:cNvSpPr/>
          <p:nvPr/>
        </p:nvSpPr>
        <p:spPr>
          <a:xfrm>
            <a:off x="857160" y="1928880"/>
            <a:ext cx="48578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8"/>
          <p:cNvSpPr/>
          <p:nvPr/>
        </p:nvSpPr>
        <p:spPr>
          <a:xfrm flipV="1">
            <a:off x="857160" y="1928880"/>
            <a:ext cx="0" cy="22860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traight Connector 9"/>
          <p:cNvSpPr/>
          <p:nvPr/>
        </p:nvSpPr>
        <p:spPr>
          <a:xfrm>
            <a:off x="5715000" y="1928880"/>
            <a:ext cx="0" cy="2500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1214280" y="1928880"/>
            <a:ext cx="40719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 flipV="1">
            <a:off x="857160" y="1928160"/>
            <a:ext cx="214560" cy="2500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 rot="5400000">
            <a:off x="4566960" y="2862360"/>
            <a:ext cx="2071800" cy="204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 rot="5400000">
            <a:off x="4250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 rot="5400000">
            <a:off x="1892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 rot="5400000">
            <a:off x="2535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 rot="5400000">
            <a:off x="3107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 rot="5400000">
            <a:off x="3678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 rot="5400000">
            <a:off x="749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 rot="5400000">
            <a:off x="132120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"/>
          <p:cNvSpPr/>
          <p:nvPr/>
        </p:nvSpPr>
        <p:spPr>
          <a:xfrm>
            <a:off x="857160" y="4429080"/>
            <a:ext cx="39290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4"/>
          <p:cNvSpPr/>
          <p:nvPr/>
        </p:nvSpPr>
        <p:spPr>
          <a:xfrm>
            <a:off x="5143680" y="4429080"/>
            <a:ext cx="57132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6"/>
          <p:cNvSpPr/>
          <p:nvPr/>
        </p:nvSpPr>
        <p:spPr>
          <a:xfrm>
            <a:off x="1714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7"/>
          <p:cNvSpPr/>
          <p:nvPr/>
        </p:nvSpPr>
        <p:spPr>
          <a:xfrm>
            <a:off x="228600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8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9"/>
          <p:cNvSpPr/>
          <p:nvPr/>
        </p:nvSpPr>
        <p:spPr>
          <a:xfrm>
            <a:off x="3500280" y="4143240"/>
            <a:ext cx="21456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0"/>
          <p:cNvSpPr/>
          <p:nvPr/>
        </p:nvSpPr>
        <p:spPr>
          <a:xfrm>
            <a:off x="42148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9" name="Straight Arrow Connector 43"/>
          <p:cNvCxnSpPr/>
          <p:nvPr/>
        </p:nvCxnSpPr>
        <p:spPr>
          <a:xfrm flipV="1">
            <a:off x="5072040" y="4144680"/>
            <a:ext cx="216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0" name="Straight Arrow Connector 44"/>
          <p:cNvCxnSpPr/>
          <p:nvPr/>
        </p:nvCxnSpPr>
        <p:spPr>
          <a:xfrm>
            <a:off x="4856760" y="4143240"/>
            <a:ext cx="11880" cy="511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1" name="Straight Arrow Connector 46"/>
          <p:cNvCxnSpPr/>
          <p:nvPr/>
        </p:nvCxnSpPr>
        <p:spPr>
          <a:xfrm flipV="1">
            <a:off x="5072040" y="3928320"/>
            <a:ext cx="2865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2" name="Straight Arrow Connector 48"/>
          <p:cNvCxnSpPr/>
          <p:nvPr/>
        </p:nvCxnSpPr>
        <p:spPr>
          <a:xfrm flipV="1">
            <a:off x="5357880" y="2285640"/>
            <a:ext cx="2160" cy="1573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3" name="Straight Arrow Connector 50"/>
          <p:cNvCxnSpPr/>
          <p:nvPr/>
        </p:nvCxnSpPr>
        <p:spPr>
          <a:xfrm flipH="1" flipV="1">
            <a:off x="4285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4" name="Straight Arrow Connector 52"/>
          <p:cNvCxnSpPr/>
          <p:nvPr/>
        </p:nvCxnSpPr>
        <p:spPr>
          <a:xfrm flipH="1" flipV="1">
            <a:off x="37144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5" name="Straight Arrow Connector 53"/>
          <p:cNvCxnSpPr/>
          <p:nvPr/>
        </p:nvCxnSpPr>
        <p:spPr>
          <a:xfrm flipH="1" flipV="1">
            <a:off x="3142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6" name="Straight Arrow Connector 54"/>
          <p:cNvCxnSpPr/>
          <p:nvPr/>
        </p:nvCxnSpPr>
        <p:spPr>
          <a:xfrm flipH="1" flipV="1">
            <a:off x="27856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7" name="Straight Arrow Connector 55"/>
          <p:cNvCxnSpPr/>
          <p:nvPr/>
        </p:nvCxnSpPr>
        <p:spPr>
          <a:xfrm flipH="1" flipV="1">
            <a:off x="2499480" y="392868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8" name="Straight Arrow Connector 56"/>
          <p:cNvCxnSpPr/>
          <p:nvPr/>
        </p:nvCxnSpPr>
        <p:spPr>
          <a:xfrm flipH="1" flipV="1">
            <a:off x="192852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9" name="Straight Arrow Connector 57"/>
          <p:cNvCxnSpPr/>
          <p:nvPr/>
        </p:nvCxnSpPr>
        <p:spPr>
          <a:xfrm flipH="1" flipV="1">
            <a:off x="371448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0" name="Straight Arrow Connector 58"/>
          <p:cNvCxnSpPr/>
          <p:nvPr/>
        </p:nvCxnSpPr>
        <p:spPr>
          <a:xfrm flipH="1" flipV="1">
            <a:off x="4785480" y="221436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1" name="Straight Arrow Connector 59"/>
          <p:cNvCxnSpPr/>
          <p:nvPr/>
        </p:nvCxnSpPr>
        <p:spPr>
          <a:xfrm flipV="1">
            <a:off x="4214880" y="2285640"/>
            <a:ext cx="216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2" name="Straight Arrow Connector 60"/>
          <p:cNvCxnSpPr/>
          <p:nvPr/>
        </p:nvCxnSpPr>
        <p:spPr>
          <a:xfrm flipV="1">
            <a:off x="2999160" y="235692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3" name="Straight Arrow Connector 61"/>
          <p:cNvCxnSpPr/>
          <p:nvPr/>
        </p:nvCxnSpPr>
        <p:spPr>
          <a:xfrm flipV="1">
            <a:off x="1856160" y="228564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4" name="Straight Arrow Connector 62"/>
          <p:cNvCxnSpPr/>
          <p:nvPr/>
        </p:nvCxnSpPr>
        <p:spPr>
          <a:xfrm>
            <a:off x="478512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5" name="Straight Arrow Connector 65"/>
          <p:cNvCxnSpPr/>
          <p:nvPr/>
        </p:nvCxnSpPr>
        <p:spPr>
          <a:xfrm>
            <a:off x="3642120" y="2357280"/>
            <a:ext cx="252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6" name="Straight Arrow Connector 66"/>
          <p:cNvCxnSpPr/>
          <p:nvPr/>
        </p:nvCxnSpPr>
        <p:spPr>
          <a:xfrm>
            <a:off x="2428920" y="2357280"/>
            <a:ext cx="216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7" name="Straight Arrow Connector 67"/>
          <p:cNvCxnSpPr/>
          <p:nvPr/>
        </p:nvCxnSpPr>
        <p:spPr>
          <a:xfrm>
            <a:off x="121320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8" name="Straight Arrow Connector 69"/>
          <p:cNvCxnSpPr/>
          <p:nvPr/>
        </p:nvCxnSpPr>
        <p:spPr>
          <a:xfrm flipH="1" flipV="1">
            <a:off x="1285200" y="2214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9" name="Straight Arrow Connector 71"/>
          <p:cNvCxnSpPr/>
          <p:nvPr/>
        </p:nvCxnSpPr>
        <p:spPr>
          <a:xfrm>
            <a:off x="1213200" y="3857400"/>
            <a:ext cx="10440" cy="369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0" name="Straight Arrow Connector 72"/>
          <p:cNvCxnSpPr/>
          <p:nvPr/>
        </p:nvCxnSpPr>
        <p:spPr>
          <a:xfrm>
            <a:off x="1214280" y="4357800"/>
            <a:ext cx="35013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c3e"/>
                </a:solidFill>
                <a:latin typeface="Calibri"/>
              </a:rPr>
              <a:t>III. Comportamentul spaţial al clienţilor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6B44-40D6-43B2-BC89-3463F2C7A42A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FD4D-16E4-4F78-BC35-82D5E90B13CD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paţiile pentru circulaţia clienţilor sunt următoare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a) căi principale de circulaţie – determină direcţia fluxului cumpărăto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b) culoare pentru efectuarea cumpărăturil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c) spaţii de staţionare – în faţa lifturilor, scărilor rulante, caselor de marc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1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itle 1" descr=""/>
          <p:cNvPicPr/>
          <p:nvPr/>
        </p:nvPicPr>
        <p:blipFill>
          <a:blip r:embed="rId1"/>
          <a:stretch/>
        </p:blipFill>
        <p:spPr>
          <a:xfrm>
            <a:off x="646200" y="-365040"/>
            <a:ext cx="7626240" cy="1650960"/>
          </a:xfrm>
          <a:prstGeom prst="rect">
            <a:avLst/>
          </a:prstGeom>
          <a:ln w="0">
            <a:noFill/>
          </a:ln>
        </p:spPr>
      </p:pic>
      <p:sp>
        <p:nvSpPr>
          <p:cNvPr id="1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CDAE-38D9-4F72-93DB-3274AE0A42B7}" type="datetime">
              <a:rPr b="0" lang="ro-RO" sz="1600" spc="-1" strike="noStrike">
                <a:solidFill>
                  <a:srgbClr val="00364c"/>
                </a:solidFill>
                <a:latin typeface="Constantia"/>
              </a:rPr>
              <a:t>30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36E2-241D-46FA-921E-C77F812E4AA2}" type="slidenum">
              <a:rPr b="0" lang="ro-RO" sz="1600" spc="-1" strike="noStrike">
                <a:solidFill>
                  <a:srgbClr val="00364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rush Script MT"/>
              </a:rPr>
              <a:t>Fluxul mărfurilor şi ambalajelor într-un depozi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3571920" y="214308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4500720" y="2143080"/>
            <a:ext cx="194436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PRIM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571920" y="30002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3"/>
          <p:cNvSpPr/>
          <p:nvPr/>
        </p:nvSpPr>
        <p:spPr>
          <a:xfrm>
            <a:off x="3571920" y="39290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4500720" y="3000240"/>
            <a:ext cx="1944360" cy="482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SCĂRC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4500720" y="392904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POZI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3571920" y="478620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7"/>
          <p:cNvSpPr/>
          <p:nvPr/>
        </p:nvSpPr>
        <p:spPr>
          <a:xfrm>
            <a:off x="4500720" y="478620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TRANSPORT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8"/>
          <p:cNvSpPr/>
          <p:nvPr/>
        </p:nvSpPr>
        <p:spPr>
          <a:xfrm>
            <a:off x="3571920" y="5643720"/>
            <a:ext cx="50328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9"/>
          <p:cNvSpPr/>
          <p:nvPr/>
        </p:nvSpPr>
        <p:spPr>
          <a:xfrm>
            <a:off x="4429080" y="5643720"/>
            <a:ext cx="194472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VÂNZ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Straight Arrow Connector 20"/>
          <p:cNvCxnSpPr>
            <a:stCxn id="1230" idx="2"/>
            <a:endCxn id="1233" idx="0"/>
          </p:cNvCxnSpPr>
          <p:nvPr/>
        </p:nvCxnSpPr>
        <p:spPr>
          <a:xfrm flipH="1">
            <a:off x="5471280" y="2574720"/>
            <a:ext cx="25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0" name="Straight Arrow Connector 21"/>
          <p:cNvCxnSpPr/>
          <p:nvPr/>
        </p:nvCxnSpPr>
        <p:spPr>
          <a:xfrm>
            <a:off x="5357520" y="350028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Straight Arrow Connector 22"/>
          <p:cNvCxnSpPr/>
          <p:nvPr/>
        </p:nvCxnSpPr>
        <p:spPr>
          <a:xfrm>
            <a:off x="5357520" y="43578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Straight Arrow Connector 23"/>
          <p:cNvCxnSpPr/>
          <p:nvPr/>
        </p:nvCxnSpPr>
        <p:spPr>
          <a:xfrm>
            <a:off x="5357520" y="5214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afcf"/>
            </a:gs>
            <a:gs pos="100000">
              <a:srgbClr val="ffe5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285840" y="499680"/>
            <a:ext cx="8501040" cy="55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omic"/>
              </a:rPr>
              <a:t>Activitate de învat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eprezentaţi grafic un spaţiu comercial, având la bază cunoştinţele asimilate pe parcursul capitolului, experienţele proprii şi respectând următoarele cerinţ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gazinul este cu autoservire şi cu un singur nivel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e aplică implantarea în detaliu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gondolele sunt orientate în lungul axei longi-tudinale a sălii de vânza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videnţiaţi fluxul clienţil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Date Placeholder 2"/>
          <p:cNvSpPr/>
          <p:nvPr/>
        </p:nvSpPr>
        <p:spPr>
          <a:xfrm>
            <a:off x="428760" y="6286680"/>
            <a:ext cx="1214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55A2-9421-40B3-BD31-C5579A5177D5}" type="datetime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C01C-23FB-4647-93A7-51587820DA9B}" type="slidenum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59:54Z</dcterms:created>
  <dc:creator>cristina maria</dc:creator>
  <dc:description/>
  <dc:language>en-US</dc:language>
  <cp:lastModifiedBy>cristina maria</cp:lastModifiedBy>
  <dcterms:modified xsi:type="dcterms:W3CDTF">2020-05-04T15:08:49Z</dcterms:modified>
  <cp:revision>16</cp:revision>
  <dc:subject/>
  <dc:title>Slide 1</dc:title>
</cp:coreProperties>
</file>