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13B6-7E97-4213-AE78-51A7CA131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E740-B17E-44BF-A2AD-9C4884DC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D5FB3-03AC-4537-AD01-1A21BCB6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B1A85-1DC6-4872-82E0-5FC1AC81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83AEC-A64D-4A11-9321-38582769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48C4B-3777-4D11-A61C-8BEDCD1F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1C368-7E76-45E9-A952-22E06AE3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06C85-112F-443C-A557-F9A2E3FD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07748-66EE-4973-BDED-E5F1718F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AE010-E871-4273-A3A0-B1C383FD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265E9-B100-4D63-B1D0-3B197EC2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783E9-F72A-41D3-9B88-16701723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B2AE-A5AE-48C5-A858-F2CDA449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00E3C-AC33-4D2F-8E85-F1FD7503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2A8C8-276E-4C5B-88D7-2FA49E12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38B85-5421-4E92-9186-20AAEE10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F732B-E5C0-481E-A342-C0A8CA24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78368-D447-4917-AC8D-481037E4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76A0E-3602-4A41-ABC9-B1B8F352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87544-2236-4B36-A020-E888FEC5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ACC6E-A6EC-4A3C-9800-FAAAE7E2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2E504-F518-478F-8017-8BCE0E52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F5BD4-B7EE-41CF-BBBA-6E94D24F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07C1-BC5C-43B4-B8D7-C8995052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9F26F-1A04-42A2-9200-25F9904B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DF610-274A-40E9-A674-0903B5FC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221B4-977B-4E8A-A90F-D1BE092D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2315B-4593-4C87-AAEB-A1D1722D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988EE-A6D5-49BF-A816-D0FF8EE4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767FD-BAB1-49CE-A954-6C1F3632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7DF60-4583-4951-AD9B-42EF3AFB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30EB3-B0C0-48E3-8B68-EAEFED24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B443D-7B07-4413-9EE5-F4B0C136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E3A82-C352-4CE3-B10B-B5F7DC4B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D8D7-F2C5-4EAA-AE40-6958750D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6F348-4689-42BF-AC3B-88C241EF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E83C7-5336-45D6-82EB-888783F8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90739-E1C3-4713-8DA6-DBA1B15D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D814F-4352-422E-87B9-00BCA608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95EA1-78A6-4C1F-BC54-BFA6FD23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B5CA5-56E4-41CA-916D-3165CCC5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A8433-252D-4159-A020-0E4600C8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D49A7-4C4D-4E6F-A769-D6C3A274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CA546-A769-4636-98DE-845F9389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74F65-6554-4C7D-9C2F-B3E69C7D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E8F5-ACF3-435D-B143-AF9AC6B0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95413-EF49-4D9D-ACE7-C7838341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45A5A-B82D-42E5-BF1F-F937E1FE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9E284-323F-44A2-9994-877E9A9D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E842C-C5AB-4C8E-AAFE-FF299626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8BE45-F486-4552-90D5-672C0F6C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31F30-97B9-406B-8BE6-A5F4DBDB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B6DCDB-C10D-4487-A3FB-49D7E9FD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09A007-4DB7-4402-80C6-5E102FD7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153B97-8F01-445C-95B1-54A0ED4D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6FB373-FD0D-4710-8D29-FA24EE8F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23B5-D502-4EA0-9782-60E43E2D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6DDB49-805E-4E25-99DA-74CDF77B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5190F9-BDA8-46E3-A6AD-22B20AA3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76CF41-6D92-4B37-9C5B-F10A2DE1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1D2160-5E4D-470D-B0B1-97172E31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000101-F136-4099-87D3-D576E7E3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0411B0-B9C9-45DF-9942-85ACC8CC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AE631B-4591-4F00-A78F-23B8F374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B728D1-AA0A-4147-9359-4D56DB2B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6429B9-62D8-4016-9B2C-F44FD136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6B9BCA-BFA0-49BF-ACF5-971108BA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EE55-44C4-4B55-B14F-176E9D27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3497F4-40C7-4C0C-93C0-3FC1AFE6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673876-594E-493F-9D81-E4809A80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DA6D01-0A34-4EEC-8C2F-85847123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E0687F-4DCA-4750-ACD1-85F4118B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33832D-87E6-4813-8B8E-17B05178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5DD61F-7B2C-44E7-B3C5-1081D8AF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0B4EBF-748D-465E-BA38-D2833FFC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F3C1F0-8464-4DFC-9321-46D2482F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C3CEE0-7CA9-4A65-997C-34606C9E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7E67D4-3AC9-414B-B703-A76D2CE9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8358-0E13-44E6-9538-B51C062C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F471FC-AC16-457F-BF5D-F63AE11C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2B4AB5-8543-46D0-8ABE-C646ADEF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7972E0-E9F4-4D6E-9C62-D6183CA4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1E1444-7DAC-4AFF-B1A9-B8AFF295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AB18C6-EF4E-463F-8F78-24AE5993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7DBFF7-A607-4B2B-A3E6-12735B7D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BEC1C2-6A71-4067-805D-D66DCE44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EC024A-BACF-45B1-8A94-05CE1BBB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50BD37-7BFC-44E9-BA76-2C5D1DF4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857562-B797-4A48-8B31-9EB8152A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E6D9-FC5D-4916-8656-8844593F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0C308F-9C76-4337-933C-70AF4649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13B97C-63E0-43C4-BDD5-F3E96AB2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ACADEE-FBA9-4779-8FE5-3C333ABF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C1DAC7-5125-4C18-917C-C38CE600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4997CC-0946-4CA2-8CEB-8962D5AB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56E943-9AE4-4DEA-B30C-3EB01262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DC3C91-87AF-44E3-BA57-F8A589AE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C45687-EB9C-432A-8617-FB8AFA7F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0450BA-9D6B-453F-867F-FD775619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74B0F9-2042-4FB8-8961-EDBCFA6A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723C-957F-44E5-9669-F7C46FA0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04C13C-3007-4387-B1C8-AA5C6CF5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5F5234-631E-42FE-BF2A-4C56F95D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2BAE85-1FA8-4A0D-BFD4-B5426BFD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73EC66-F48C-468A-9043-A50259A7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EB0B1D-92A3-4101-8A0A-8A3E64FC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386DEC-10DA-4DE0-88A9-94BAE6D0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E57DFF-4A7E-4DE0-BFD4-30F92F8C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4199F3-B8D4-43A7-87D4-DEBD9937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395A3A-FFFE-4154-8313-63DD937E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A2CC71-E1BB-4E1A-8700-3C989EB4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D7F3-5436-411C-9384-F8EAA260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2C05-E04F-4542-9E88-45A761FB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B2F0A5-C054-43CD-83C4-7134A647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DFD199-F932-469A-9FF1-5E730DED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77D5B3-5570-499E-98D2-72553D0B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E08DAA-1D73-4AA5-818C-82BF7B6B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0F7B41-283D-43DB-9D7E-F624B712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5290E7-2B87-4697-9FBA-030D97DA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9EC420-7CBB-4F08-A809-4C940F10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1CC251-0652-4F46-88F8-4BE067F8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77B975-861C-49D1-8A05-CF9523A4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098D47-2E02-4638-860D-6DAD45DC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9445-325B-4306-A2DF-18D5B2A4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A79793-5BC6-458E-9E63-9C27B946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25C16F-A6BA-474E-BEB7-A589381A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E8D280-80ED-4F23-A8E7-192AA5B8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7E1542-2871-4A66-931E-7C449490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3B09CD-A01F-4681-949F-8458BCB7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3F6F7F-1B77-45E9-A0B6-84E09F03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FD8E71-27D5-4793-9A4B-A71067173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327750-E139-419C-B948-286381F0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1282C6-E44D-4C49-BDB0-93F7315A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34E6A1-926E-4D68-8E6F-92A02C84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53B3-1A6A-46AB-90F6-D5CB0B78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AD8515-C39B-44AC-9F1A-40B162F8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EE4EDF-3D1D-47E4-B671-276E019E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EE73E7-62DB-433D-8004-5FD3D50B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5D37BA-0D7D-42D1-9E45-556EA6A4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0E6B6E-CC97-4CAE-938F-87054AE6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EF7D6D-94E0-406E-A746-88C45445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943249-6EEF-4BD4-B01F-B756B99A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FAB001-CF4B-4766-BE36-2A29B6EE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02FB9A-F360-4C1C-B8D5-B4FDE01E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9AAD77-D091-440A-8638-1BFC03AE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D15B-258B-4031-A68C-39353C04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B81A38-F535-4946-8045-C2FAFFA6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515491-1F69-45A8-A257-6412A450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67D8E2-F16B-470D-B677-3A7803B0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7C4DBB-E9AF-45F0-A13B-76D73DC0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B01FDD-EA74-42FF-B149-722BBDCB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BEFD9A-764A-48D0-9A2B-D3D0B356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5FB6EF-1B33-4E63-9B8F-F97D7183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BF68C2-07E5-4582-A6A7-8EA8A726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76406A-CED8-4B58-A382-4892DEE6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CFA79B-A6F9-483B-BE4F-46649821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58DC-E098-4FDC-B73F-87369D4D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B2944A-C4B6-4E69-8DEB-71485F21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52FEA7-29D8-4C1D-9628-AC324C14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AF8096-F2E4-4514-93E0-9B5AA025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953E2B-119D-412F-A1AF-7C82ACE2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2EACF3-C7CA-4542-B130-8800384F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4D1F6D-798D-42A4-A786-BD64CE74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CA8E2C-F7D5-4FA7-BE8A-F79999D0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AA3730-6BD0-4DBE-9C8E-1F8CCC84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03E70F-56FC-418D-9D0F-8DF8BDA5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6CE83F-0385-448A-A7CB-8F6B9CBD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F68EC-6BDC-4129-AF6A-DA635EB3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C2BDB3-999F-4D64-BB91-B57166EB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F5F7B8-0118-4B59-8846-3D0C2E78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AAE94D-BA84-4549-9D6E-DB51068D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BD4670-AC75-4B9D-A56B-120B8338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B0CFBA-D99F-4211-8B85-3579FD93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70B99C-8FAF-4D8E-9812-300B63A0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B46D01-15E7-4C26-80F5-989C7ED8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08003F-5F11-4AFC-BEF9-CFC5ED62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8C8D55-8B82-4BA5-BA7A-E8858DB2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064891-37D8-409A-9C39-2FB8B31B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04146-D29C-448C-A585-24D1F49E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6BC020-72DB-4DD7-9C21-E6865B37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400011-6C32-4CD7-B649-C89766FF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FE694C-B424-4577-873D-E46E7DD5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FF776A-D4E1-4C73-BDCC-76DE0272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738E67-C8F2-40B9-AE28-EF697F0B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85F26B-E94B-4C9F-BC36-9149044E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325D7C-BDA2-4A2F-B37C-126BE886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D139A2-B550-4364-9E11-C4F098B6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8E4A85-F7E1-49DD-B940-73F9B7AF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6E05D1-A0A4-4E08-AF88-267A747C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F4234-2713-4D6C-BA28-A46F1722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DB3E5F-D8FC-4BCE-83AA-260EBA31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9ACC89-DB55-4744-888D-5DF54D30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86FFD3-6C42-4AD0-ACC2-8920B04B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117317-8EDF-4BFA-AE52-CA6BCBC9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DA2EDC-D9C9-493D-872E-11A7BA4A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208F8D-8D29-4EE9-BF7D-874EEF11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D81733-AE7B-4352-8B72-121ACC99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13F491-A358-495A-8E8B-53A3B39A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799329-3D17-4A4E-8615-FB91230A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2F17D2-5A48-43C1-8A1C-85ABA0AE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E1373-B459-4731-AC51-42599A41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4FB4BE-F232-4013-9805-6BB29C0C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534879-CFD0-4A71-A159-1BE6A9DD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3FCC92-0CAD-44CF-9C84-979951ED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12EF88-3AC3-4120-AE7C-BE7507EE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F58FAF-79BF-48D7-BF3F-AA8B2DE6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342C8F-932A-4C43-A59A-119B5715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9F2EB3-DCAE-49C9-BD4C-D756CC0E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10DDD1-BFF3-47A1-AB41-06518D04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2D0926-5785-494E-AE9F-342724BE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B96D6-B8B1-4C90-8DB0-F98870A6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64C3-1877-4D08-804E-E5E1BC6D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DD9F5-C4D5-47DA-85B2-F00E9C22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4B8EA-8FD3-44B2-8C62-553E3E4E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F645B-3A67-4991-87E5-870C7422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A223E-87FA-4D09-9B12-803C59D9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68A1E-3418-4164-B624-3A3784C7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40242-B291-4B11-8DEA-2BEDB2D6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94D6F-008B-4013-8B83-7E0DAC8E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780FA-014B-4DDD-AF50-4CF6FD8D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751CD-E4A8-4275-BA94-968ECA59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05E8B-F93C-41E9-BD37-8566F509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DC28-9406-4254-9E10-FCE19392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2330B-D96C-4D11-9776-7EA69D62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1C059-76B4-416D-A2F4-C6A50906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94C3C-EABF-4F01-9BEF-50842994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F2B99-A908-436B-930C-7AEA507F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C6812-6B12-4CCC-BAC5-507F5118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C6E21-69BE-4487-92A4-687C1D61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329A6-30AC-4C72-958C-E2C264DA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E7B0D-97A0-46F2-B068-C8E8C853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9AB9C-9CB0-4FC4-A4CC-E43FA06D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DB9F3-169D-4047-B2AE-86CA6BEB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9103-483C-45B0-A3FE-BF9CB9D2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17DBD-5D83-4C41-B52E-AE731484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C0363-6C34-4A92-9DA1-4A4C4C60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6D2A6-3945-4D02-8818-BB969A86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E5A72-2F90-44E3-9D35-77FAD3A5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2ABE4-F245-4499-96C1-D7D146FF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5A211-3D9A-4A3B-AA4F-E7D3D8CD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17064-9F24-47E9-B953-665FFBFA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E886D-1259-409D-9A2B-8CEE79DF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621AC-AB12-40FE-B631-471BF1D3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96849-DABF-4E0E-908F-1D3B2617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E7C0-36C2-46DE-947B-A9482760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83CCA-D1A2-4432-8511-3A33C540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BD414-37EF-4B76-B851-3C7CD860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5D338-249F-48B3-B9F7-3D071194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3E67A-5663-4583-A834-A34E4463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4CDA0-CD2C-4817-8D72-42CEFBE7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97899-FCC6-48E0-BFB7-16E7A4A4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71016-B40E-4218-9A45-2A35B48F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061BA-71B4-4F08-A010-2F924D8D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12476-10F1-4CC8-A58B-74790809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C5BE4-6C9D-4E40-85DC-D9469C6E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638E-F7A7-432F-A6EA-464AEAA5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B0538-B272-4B92-ABEE-F801ADA7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690C1-C4CB-4380-9421-9265E599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FCACC-ED8D-4574-A49B-1BA35FE1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05BE1-89F0-4D5D-9CF6-6E88DB312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25E39-43F4-4615-93BD-CDC516C1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C6DA1-EA06-4484-9B2F-923861F5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F8636-637F-4C51-9D7A-A4D1C91E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C0E44-3C1B-4561-8054-A60F3AA1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C612A-12E2-463A-BBA5-4449CAD1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E16A7-1B02-4033-9B2E-2EFABAF7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8CBB-FB37-44CA-8813-94FF5A18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5A129-1586-4AAB-84D8-A88EB9C3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D959E-006F-4192-ABD2-3D098285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6A89E-74DE-42C7-91A7-38F223CA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1EDD0-D379-4ECC-B2C1-EF11FD58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4C2E8-0BD9-4C24-AE84-582A3D7C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B1ECD-0742-4655-B706-CC566C31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A3A12-32F9-4833-9868-66B86F21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67C8B-A980-4203-AE93-5063751E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549F4-41C9-401A-80B1-6B96EDFE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2FA4D-2EA9-4665-AB92-FFE0C5CC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6F90-1A7D-4DCD-94A9-0AD01871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0925A-D575-4C8C-89F4-EC13897C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45332-0281-4E54-B726-9238EB37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661C1-3D78-4644-87F1-5897E9E8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6C99A-1824-40A4-B1C0-C2257DA4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A39BF-BBE3-48F9-A054-D000A9A5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0223E-EFCC-4517-95CE-99B9B49B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40D28-C46A-4E7C-A9BE-3A990B64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08BE4-39FC-4E28-9710-22C5582B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72063-B956-47F4-87AC-223B8364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DD70B-BB77-4701-AC88-D79D3290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B68D-AECE-4DFC-8178-F597F5C47565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02D2-85DE-400B-BBEF-5E8C0B0E3403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AFB0-11C7-42C9-B57A-C5949BFA00CC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0434-2109-4896-953D-6946E29B0D3D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B88D-6020-4E12-9EE5-14735B4229A4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4C37-5F6A-4E69-B73C-4ED048A975B9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D212-4CDB-4ED9-81A0-8A4EB53E1D27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4EE2-E533-4FD3-A2A6-65CA19401181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B98F-374A-4A3A-85FA-8270C523D754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FCB0-9F43-4787-ACAE-3419091BDFA2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64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88E3-8E09-4D50-96FF-0626306199B6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C49E-17BE-44CB-B764-B5A9D01E9BC7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6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2103-672B-402A-9D7E-0666C88ACB49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F516-AB6D-4907-970D-83ECBDA9F121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73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F689-9B65-4E21-97AC-1769692751B2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FA25-BE06-4CC2-81BF-7AD7F147251D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77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4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40DC-EE6E-4EFC-9D24-A1E2447993C1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5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A80A-1F7C-4416-82E0-16D9F4358873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5226-7209-4C60-B1D5-2448E3BEA9B8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B851-B6B2-41E7-BF60-F0148056962D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6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05A6-E653-499D-8BD3-D047B090716E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5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8D20-208B-4780-8E51-232DFCC67C48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FC52-CFDC-4D8C-BDB6-0C8A1CCC8AF3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EF11-358F-440A-AB1B-11EE4BC4C03B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147F-46C9-4CCB-9D82-B28DF4FEC6E4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6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783C-F456-43A4-A901-0F5329FDBDB6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54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6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AEF0-7E10-4E02-9EA1-9DA10FCAB78C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6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6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FF5F-110E-43BA-9638-DF9DB1392033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5C02-FC78-4F33-819A-7BCAB6B4DFCD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E400-9748-47E7-A496-64400136B0C4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4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6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E917-29D8-478C-8C82-4592BC815AB9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6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6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E680-E01C-4B32-93F3-9104FBCF9BC8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dt" idx="7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6E87-406D-454E-95C7-EDE3A59DEA28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 type="ftr" idx="7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 type="sldNum" idx="7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55B0-7AAF-4C52-96D4-EC6B612B3D62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7F69-FC75-4B9E-AE0B-979E1110A41E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6A6F-9E68-4683-AABC-A75320848757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C4C8-9E42-4BB6-A903-7529FA193AE2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0D38-FE08-44CC-9A4A-F2713431BEC1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5314-17A1-4ED5-B359-B1670F60F7C8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A568-4D6D-4370-8532-E74F01B411A3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C1A7-C2D1-4BE5-BB1B-3592143CF38B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0E8A-188E-4068-95DE-668ED4B4BD96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1F71-1FB2-475F-B1C8-7016F8B64921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CAC2-3A1E-4D16-AA7A-C822D3817EE3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DC6C-73D9-4432-9122-90EA580E01D6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E049-11FA-4426-9924-47E5A8FC74AA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A9F1-4599-42A9-BDC6-CEC1F3362CD1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CABD-0F1B-48EB-A77A-981FC411F6EA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Title 1" descr=""/>
          <p:cNvPicPr/>
          <p:nvPr/>
        </p:nvPicPr>
        <p:blipFill>
          <a:blip r:embed="rId1"/>
          <a:stretch/>
        </p:blipFill>
        <p:spPr>
          <a:xfrm>
            <a:off x="480960" y="-49320"/>
            <a:ext cx="8255160" cy="2243160"/>
          </a:xfrm>
          <a:prstGeom prst="rect">
            <a:avLst/>
          </a:prstGeom>
          <a:ln w="0">
            <a:noFill/>
          </a:ln>
        </p:spPr>
      </p:pic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285480" y="1571400"/>
            <a:ext cx="8643960" cy="47862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1836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00293a"/>
                </a:solidFill>
                <a:latin typeface="Constantia"/>
              </a:rPr>
              <a:t>Obiectiv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enumerarea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descrierea completă a tuturor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prezentarea tuturor tipurilor de fluxuri de circulaţie a clienţilor în sala de vânzar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tabilirea corectă a fluxului mărfurilor şi ambalajelo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AAA0-296E-4117-B2BC-B9017FBFA8B4}" type="datetime">
              <a:rPr b="0" lang="ro-RO" sz="1400" spc="-1" strike="noStrike">
                <a:solidFill>
                  <a:srgbClr val="000000"/>
                </a:solidFill>
                <a:latin typeface="Constant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CDE2-9A4E-48B4-A053-402A2C90DE67}" type="slidenum">
              <a:rPr b="0" lang="ro-RO" sz="16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603360" y="-517680"/>
            <a:ext cx="7711920" cy="2102040"/>
          </a:xfrm>
          <a:prstGeom prst="rect">
            <a:avLst/>
          </a:prstGeom>
          <a:ln w="0">
            <a:noFill/>
          </a:ln>
        </p:spPr>
      </p:pic>
      <p:pic>
        <p:nvPicPr>
          <p:cNvPr id="1135" name="Content Placeholder 2" descr=""/>
          <p:cNvPicPr/>
          <p:nvPr/>
        </p:nvPicPr>
        <p:blipFill>
          <a:blip r:embed="rId2"/>
          <a:stretch/>
        </p:blipFill>
        <p:spPr>
          <a:xfrm>
            <a:off x="689040" y="414360"/>
            <a:ext cx="8540640" cy="9345600"/>
          </a:xfrm>
          <a:prstGeom prst="rect">
            <a:avLst/>
          </a:prstGeom>
          <a:ln w="0">
            <a:noFill/>
          </a:ln>
        </p:spPr>
      </p:pic>
      <p:sp>
        <p:nvSpPr>
          <p:cNvPr id="1136" name="Date Placeholder 3"/>
          <p:cNvSpPr/>
          <p:nvPr/>
        </p:nvSpPr>
        <p:spPr>
          <a:xfrm>
            <a:off x="4572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9B70-C326-46B8-8256-AD0F0F27BC24}" type="datetime">
              <a:rPr b="0" lang="ro-RO" sz="1600" spc="-1" strike="noStrike">
                <a:solidFill>
                  <a:srgbClr val="03231b"/>
                </a:solidFill>
                <a:latin typeface="Constantia"/>
              </a:rPr>
              <a:t>31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lide Number Placeholder 4"/>
          <p:cNvSpPr/>
          <p:nvPr/>
        </p:nvSpPr>
        <p:spPr>
          <a:xfrm>
            <a:off x="8001000" y="635796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C05E-AC05-4346-B170-7EC1C144773A}" type="slidenum">
              <a:rPr b="0" lang="ro-RO" sz="1600" spc="-1" strike="noStrike">
                <a:solidFill>
                  <a:srgbClr val="03271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2" descr=""/>
          <p:cNvPicPr/>
          <p:nvPr/>
        </p:nvPicPr>
        <p:blipFill>
          <a:blip r:embed="rId3"/>
          <a:stretch/>
        </p:blipFill>
        <p:spPr>
          <a:xfrm>
            <a:off x="6072120" y="3786120"/>
            <a:ext cx="28717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2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4097-EDD0-48DA-9F26-974A42FD3534}" type="datetime">
              <a:rPr b="0" lang="ro-RO" sz="1600" spc="-1" strike="noStrike">
                <a:solidFill>
                  <a:srgbClr val="1f250d"/>
                </a:solidFill>
                <a:latin typeface="Constantia"/>
              </a:rPr>
              <a:t>31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1107-F951-4C2C-B97D-A72EE54670C1}" type="slidenum">
              <a:rPr b="0" lang="ro-RO" sz="1600" spc="-1" strike="noStrike">
                <a:solidFill>
                  <a:srgbClr val="1d220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ooter Placeholder 5"/>
          <p:cNvSpPr/>
          <p:nvPr/>
        </p:nvSpPr>
        <p:spPr>
          <a:xfrm>
            <a:off x="242892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213840" y="142560"/>
            <a:ext cx="864396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.Mărimea magazinului şi particularităţile lui constructive</a:t>
            </a:r>
            <a:r>
              <a:rPr b="1" i="1" lang="ro-RO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93a"/>
                </a:solidFill>
                <a:latin typeface="Constantia"/>
              </a:rPr>
              <a:t>Sfat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intrarea în magazin să fie orientată spre strad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eschiderea uşilor să se facă în sensul fluxului clienţilor (spre stânga) la magazinele cu autoservire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este de preferat ca pentr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uşa de ieşire să existe o uş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istinctă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5"/>
          <a:stretch/>
        </p:blipFill>
        <p:spPr>
          <a:xfrm>
            <a:off x="4929120" y="3071880"/>
            <a:ext cx="3714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9f44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02D9-410F-4E44-929B-B39A4638D0E6}" type="datetime">
              <a:rPr b="0" lang="ro-RO" sz="1600" spc="-1" strike="noStrike">
                <a:solidFill>
                  <a:srgbClr val="02232c"/>
                </a:solidFill>
                <a:latin typeface="Constantia"/>
              </a:rPr>
              <a:t>31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A2F4-5552-4D68-952C-05EDBF623A4A}" type="slidenum">
              <a:rPr b="0" lang="ro-RO" sz="1600" spc="-1" strike="noStrike">
                <a:solidFill>
                  <a:srgbClr val="01202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285840" y="357120"/>
            <a:ext cx="857232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I. Dispunerea mobilierului comercial în sala de vânzare, în legătură directă cu formele de vânzare practicate în magaz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	</a:t>
            </a: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În magazanele cu autoservire, gondolele pot fi orientate în diferite mod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a) în lungul axei longitudinale a sălii de vânza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Gondole (mobilier de expune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a produselo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    </a:t>
            </a: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- case de marca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7" name="Picture 3" descr=""/>
          <p:cNvPicPr/>
          <p:nvPr/>
        </p:nvPicPr>
        <p:blipFill>
          <a:blip r:embed="rId1"/>
          <a:stretch/>
        </p:blipFill>
        <p:spPr>
          <a:xfrm>
            <a:off x="5000760" y="3143160"/>
            <a:ext cx="3936960" cy="2714760"/>
          </a:xfrm>
          <a:prstGeom prst="rect">
            <a:avLst/>
          </a:prstGeom>
          <a:ln w="0">
            <a:noFill/>
          </a:ln>
        </p:spPr>
      </p:pic>
      <p:sp>
        <p:nvSpPr>
          <p:cNvPr id="1148" name="Rectangle 6"/>
          <p:cNvSpPr/>
          <p:nvPr/>
        </p:nvSpPr>
        <p:spPr>
          <a:xfrm>
            <a:off x="1214280" y="3357720"/>
            <a:ext cx="3143520" cy="142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7"/>
          <p:cNvSpPr/>
          <p:nvPr/>
        </p:nvSpPr>
        <p:spPr>
          <a:xfrm>
            <a:off x="1214280" y="371484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8"/>
          <p:cNvSpPr/>
          <p:nvPr/>
        </p:nvSpPr>
        <p:spPr>
          <a:xfrm>
            <a:off x="1214280" y="407196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9"/>
          <p:cNvSpPr/>
          <p:nvPr/>
        </p:nvSpPr>
        <p:spPr>
          <a:xfrm>
            <a:off x="1214280" y="442908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0"/>
          <p:cNvSpPr/>
          <p:nvPr/>
        </p:nvSpPr>
        <p:spPr>
          <a:xfrm>
            <a:off x="1214280" y="478620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traight Connector 12"/>
          <p:cNvSpPr/>
          <p:nvPr/>
        </p:nvSpPr>
        <p:spPr>
          <a:xfrm>
            <a:off x="500040" y="33577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traight Connector 14"/>
          <p:cNvSpPr/>
          <p:nvPr/>
        </p:nvSpPr>
        <p:spPr>
          <a:xfrm>
            <a:off x="4857840" y="3357720"/>
            <a:ext cx="0" cy="15714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traight Connector 16"/>
          <p:cNvSpPr/>
          <p:nvPr/>
        </p:nvSpPr>
        <p:spPr>
          <a:xfrm>
            <a:off x="500040" y="49291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traight Connector 20"/>
          <p:cNvSpPr/>
          <p:nvPr/>
        </p:nvSpPr>
        <p:spPr>
          <a:xfrm>
            <a:off x="500040" y="3357720"/>
            <a:ext cx="0" cy="100008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traight Connector 21"/>
          <p:cNvSpPr/>
          <p:nvPr/>
        </p:nvSpPr>
        <p:spPr>
          <a:xfrm>
            <a:off x="500040" y="4714920"/>
            <a:ext cx="0" cy="2858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8" name="Straight Arrow Connector 30"/>
          <p:cNvCxnSpPr/>
          <p:nvPr/>
        </p:nvCxnSpPr>
        <p:spPr>
          <a:xfrm>
            <a:off x="428760" y="457200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59" name="Rectangle 34"/>
          <p:cNvSpPr/>
          <p:nvPr/>
        </p:nvSpPr>
        <p:spPr>
          <a:xfrm flipV="1" rot="5400000">
            <a:off x="3977640" y="4047840"/>
            <a:ext cx="1571400" cy="189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0" name="Straight Arrow Connector 35"/>
          <p:cNvCxnSpPr/>
          <p:nvPr/>
        </p:nvCxnSpPr>
        <p:spPr>
          <a:xfrm flipV="1">
            <a:off x="4500720" y="3642840"/>
            <a:ext cx="10080" cy="3470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1" name="Straight Arrow Connector 36"/>
          <p:cNvCxnSpPr/>
          <p:nvPr/>
        </p:nvCxnSpPr>
        <p:spPr>
          <a:xfrm flipV="1">
            <a:off x="4500720" y="4357440"/>
            <a:ext cx="2160" cy="357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2" name="Straight Arrow Connector 37"/>
          <p:cNvCxnSpPr/>
          <p:nvPr/>
        </p:nvCxnSpPr>
        <p:spPr>
          <a:xfrm>
            <a:off x="1356840" y="471492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3" name="Straight Arrow Connector 40"/>
          <p:cNvCxnSpPr/>
          <p:nvPr/>
        </p:nvCxnSpPr>
        <p:spPr>
          <a:xfrm>
            <a:off x="1356840" y="400068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4" name="Straight Arrow Connector 41"/>
          <p:cNvCxnSpPr/>
          <p:nvPr/>
        </p:nvCxnSpPr>
        <p:spPr>
          <a:xfrm flipH="1" flipV="1">
            <a:off x="1213920" y="4357440"/>
            <a:ext cx="31442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5" name="Straight Arrow Connector 44"/>
          <p:cNvCxnSpPr/>
          <p:nvPr/>
        </p:nvCxnSpPr>
        <p:spPr>
          <a:xfrm flipH="1" flipV="1">
            <a:off x="1213920" y="3642480"/>
            <a:ext cx="314424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6" name="Straight Arrow Connector 47"/>
          <p:cNvCxnSpPr/>
          <p:nvPr/>
        </p:nvCxnSpPr>
        <p:spPr>
          <a:xfrm flipV="1">
            <a:off x="1071720" y="3999960"/>
            <a:ext cx="10080" cy="3466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67" name="Rectangle 48"/>
          <p:cNvSpPr/>
          <p:nvPr/>
        </p:nvSpPr>
        <p:spPr>
          <a:xfrm>
            <a:off x="785880" y="350028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49"/>
          <p:cNvSpPr/>
          <p:nvPr/>
        </p:nvSpPr>
        <p:spPr>
          <a:xfrm>
            <a:off x="785880" y="378612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50"/>
          <p:cNvSpPr/>
          <p:nvPr/>
        </p:nvSpPr>
        <p:spPr>
          <a:xfrm>
            <a:off x="785880" y="41432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51"/>
          <p:cNvSpPr/>
          <p:nvPr/>
        </p:nvSpPr>
        <p:spPr>
          <a:xfrm>
            <a:off x="428760" y="60008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1" name="Straight Arrow Connector 52"/>
          <p:cNvCxnSpPr/>
          <p:nvPr/>
        </p:nvCxnSpPr>
        <p:spPr>
          <a:xfrm flipH="1" flipV="1">
            <a:off x="785520" y="3428640"/>
            <a:ext cx="348480" cy="72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2" name="Straight Arrow Connector 54"/>
          <p:cNvCxnSpPr/>
          <p:nvPr/>
        </p:nvCxnSpPr>
        <p:spPr>
          <a:xfrm>
            <a:off x="642960" y="3499920"/>
            <a:ext cx="1008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3" name="Straight Arrow Connector 56"/>
          <p:cNvCxnSpPr/>
          <p:nvPr/>
        </p:nvCxnSpPr>
        <p:spPr>
          <a:xfrm flipH="1">
            <a:off x="641160" y="3930120"/>
            <a:ext cx="216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4" name="Straight Arrow Connector 59"/>
          <p:cNvCxnSpPr/>
          <p:nvPr/>
        </p:nvCxnSpPr>
        <p:spPr>
          <a:xfrm flipH="1">
            <a:off x="285120" y="4428000"/>
            <a:ext cx="338760" cy="10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a573">
            <a:alpha val="9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Date Placeholder 3"/>
          <p:cNvSpPr/>
          <p:nvPr/>
        </p:nvSpPr>
        <p:spPr>
          <a:xfrm>
            <a:off x="285840" y="6356520"/>
            <a:ext cx="1071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F79F-51AE-4F06-AB0A-58115AE529C4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31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B308-7F4F-4B27-9DAB-982721AFD045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214200" y="285840"/>
            <a:ext cx="871560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c3e"/>
                </a:solidFill>
                <a:latin typeface="Constantia"/>
              </a:rPr>
              <a:t>b) </a:t>
            </a: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pendicular pe axa longitudinală  a sălii de vânzare – fluxul clienţilor este orientat astfel încât punctul de plecare să corespundă cu punctul de sosire. Numărul rândurilor de gondole dispuse pe mijlocul suprafeţei de vânzare trebuie să fie imp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În magazinele cu vânzare clasic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mobilierul poate fi dispus de-a lungu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eţilor  şi în mijlocul sălilor de vânza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78" name="Picture 2" descr=""/>
          <p:cNvPicPr/>
          <p:nvPr/>
        </p:nvPicPr>
        <p:blipFill>
          <a:blip r:embed="rId1"/>
          <a:stretch/>
        </p:blipFill>
        <p:spPr>
          <a:xfrm>
            <a:off x="5786280" y="4357800"/>
            <a:ext cx="3262320" cy="2136600"/>
          </a:xfrm>
          <a:prstGeom prst="rect">
            <a:avLst/>
          </a:prstGeom>
          <a:ln w="0">
            <a:noFill/>
          </a:ln>
        </p:spPr>
      </p:pic>
      <p:sp>
        <p:nvSpPr>
          <p:cNvPr id="1179" name="Straight Connector 7"/>
          <p:cNvSpPr/>
          <p:nvPr/>
        </p:nvSpPr>
        <p:spPr>
          <a:xfrm>
            <a:off x="857160" y="1928880"/>
            <a:ext cx="48578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traight Connector 8"/>
          <p:cNvSpPr/>
          <p:nvPr/>
        </p:nvSpPr>
        <p:spPr>
          <a:xfrm flipV="1">
            <a:off x="857160" y="1928880"/>
            <a:ext cx="0" cy="22860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Straight Connector 9"/>
          <p:cNvSpPr/>
          <p:nvPr/>
        </p:nvSpPr>
        <p:spPr>
          <a:xfrm>
            <a:off x="5715000" y="1928880"/>
            <a:ext cx="0" cy="25002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17"/>
          <p:cNvSpPr/>
          <p:nvPr/>
        </p:nvSpPr>
        <p:spPr>
          <a:xfrm>
            <a:off x="1214280" y="1928880"/>
            <a:ext cx="40719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18"/>
          <p:cNvSpPr/>
          <p:nvPr/>
        </p:nvSpPr>
        <p:spPr>
          <a:xfrm flipV="1">
            <a:off x="857160" y="1928160"/>
            <a:ext cx="214560" cy="2500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19"/>
          <p:cNvSpPr/>
          <p:nvPr/>
        </p:nvSpPr>
        <p:spPr>
          <a:xfrm rot="5400000">
            <a:off x="4566960" y="2862360"/>
            <a:ext cx="2071800" cy="2048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0"/>
          <p:cNvSpPr/>
          <p:nvPr/>
        </p:nvSpPr>
        <p:spPr>
          <a:xfrm rot="5400000">
            <a:off x="4250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1"/>
          <p:cNvSpPr/>
          <p:nvPr/>
        </p:nvSpPr>
        <p:spPr>
          <a:xfrm rot="5400000">
            <a:off x="1892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22"/>
          <p:cNvSpPr/>
          <p:nvPr/>
        </p:nvSpPr>
        <p:spPr>
          <a:xfrm rot="5400000">
            <a:off x="2535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23"/>
          <p:cNvSpPr/>
          <p:nvPr/>
        </p:nvSpPr>
        <p:spPr>
          <a:xfrm rot="5400000">
            <a:off x="3107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24"/>
          <p:cNvSpPr/>
          <p:nvPr/>
        </p:nvSpPr>
        <p:spPr>
          <a:xfrm rot="5400000">
            <a:off x="3678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25"/>
          <p:cNvSpPr/>
          <p:nvPr/>
        </p:nvSpPr>
        <p:spPr>
          <a:xfrm rot="5400000">
            <a:off x="749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26"/>
          <p:cNvSpPr/>
          <p:nvPr/>
        </p:nvSpPr>
        <p:spPr>
          <a:xfrm rot="5400000">
            <a:off x="132120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traight Connector 30"/>
          <p:cNvSpPr/>
          <p:nvPr/>
        </p:nvSpPr>
        <p:spPr>
          <a:xfrm>
            <a:off x="857160" y="4429080"/>
            <a:ext cx="39290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traight Connector 34"/>
          <p:cNvSpPr/>
          <p:nvPr/>
        </p:nvSpPr>
        <p:spPr>
          <a:xfrm>
            <a:off x="5143680" y="4429080"/>
            <a:ext cx="57132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36"/>
          <p:cNvSpPr/>
          <p:nvPr/>
        </p:nvSpPr>
        <p:spPr>
          <a:xfrm>
            <a:off x="1714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37"/>
          <p:cNvSpPr/>
          <p:nvPr/>
        </p:nvSpPr>
        <p:spPr>
          <a:xfrm>
            <a:off x="228600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38"/>
          <p:cNvSpPr/>
          <p:nvPr/>
        </p:nvSpPr>
        <p:spPr>
          <a:xfrm>
            <a:off x="2857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39"/>
          <p:cNvSpPr/>
          <p:nvPr/>
        </p:nvSpPr>
        <p:spPr>
          <a:xfrm>
            <a:off x="3500280" y="4143240"/>
            <a:ext cx="21456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40"/>
          <p:cNvSpPr/>
          <p:nvPr/>
        </p:nvSpPr>
        <p:spPr>
          <a:xfrm>
            <a:off x="42148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9" name="Straight Arrow Connector 43"/>
          <p:cNvCxnSpPr/>
          <p:nvPr/>
        </p:nvCxnSpPr>
        <p:spPr>
          <a:xfrm flipV="1">
            <a:off x="5072040" y="4144680"/>
            <a:ext cx="216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0" name="Straight Arrow Connector 44"/>
          <p:cNvCxnSpPr/>
          <p:nvPr/>
        </p:nvCxnSpPr>
        <p:spPr>
          <a:xfrm>
            <a:off x="4856760" y="4143240"/>
            <a:ext cx="11880" cy="511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1" name="Straight Arrow Connector 46"/>
          <p:cNvCxnSpPr/>
          <p:nvPr/>
        </p:nvCxnSpPr>
        <p:spPr>
          <a:xfrm flipV="1">
            <a:off x="5072040" y="3928320"/>
            <a:ext cx="286560" cy="214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2" name="Straight Arrow Connector 48"/>
          <p:cNvCxnSpPr/>
          <p:nvPr/>
        </p:nvCxnSpPr>
        <p:spPr>
          <a:xfrm flipV="1">
            <a:off x="5357880" y="2285640"/>
            <a:ext cx="2160" cy="1573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3" name="Straight Arrow Connector 50"/>
          <p:cNvCxnSpPr/>
          <p:nvPr/>
        </p:nvCxnSpPr>
        <p:spPr>
          <a:xfrm flipH="1" flipV="1">
            <a:off x="4285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4" name="Straight Arrow Connector 52"/>
          <p:cNvCxnSpPr/>
          <p:nvPr/>
        </p:nvCxnSpPr>
        <p:spPr>
          <a:xfrm flipH="1" flipV="1">
            <a:off x="37144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5" name="Straight Arrow Connector 53"/>
          <p:cNvCxnSpPr/>
          <p:nvPr/>
        </p:nvCxnSpPr>
        <p:spPr>
          <a:xfrm flipH="1" flipV="1">
            <a:off x="3142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6" name="Straight Arrow Connector 54"/>
          <p:cNvCxnSpPr/>
          <p:nvPr/>
        </p:nvCxnSpPr>
        <p:spPr>
          <a:xfrm flipH="1" flipV="1">
            <a:off x="27856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7" name="Straight Arrow Connector 55"/>
          <p:cNvCxnSpPr/>
          <p:nvPr/>
        </p:nvCxnSpPr>
        <p:spPr>
          <a:xfrm flipH="1" flipV="1">
            <a:off x="2499480" y="392868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8" name="Straight Arrow Connector 56"/>
          <p:cNvCxnSpPr/>
          <p:nvPr/>
        </p:nvCxnSpPr>
        <p:spPr>
          <a:xfrm flipH="1" flipV="1">
            <a:off x="192852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9" name="Straight Arrow Connector 57"/>
          <p:cNvCxnSpPr/>
          <p:nvPr/>
        </p:nvCxnSpPr>
        <p:spPr>
          <a:xfrm flipH="1" flipV="1">
            <a:off x="371448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0" name="Straight Arrow Connector 58"/>
          <p:cNvCxnSpPr/>
          <p:nvPr/>
        </p:nvCxnSpPr>
        <p:spPr>
          <a:xfrm flipH="1" flipV="1">
            <a:off x="4785480" y="221436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1" name="Straight Arrow Connector 59"/>
          <p:cNvCxnSpPr/>
          <p:nvPr/>
        </p:nvCxnSpPr>
        <p:spPr>
          <a:xfrm flipV="1">
            <a:off x="4214880" y="2285640"/>
            <a:ext cx="216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2" name="Straight Arrow Connector 60"/>
          <p:cNvCxnSpPr/>
          <p:nvPr/>
        </p:nvCxnSpPr>
        <p:spPr>
          <a:xfrm flipV="1">
            <a:off x="2999160" y="235692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3" name="Straight Arrow Connector 61"/>
          <p:cNvCxnSpPr/>
          <p:nvPr/>
        </p:nvCxnSpPr>
        <p:spPr>
          <a:xfrm flipV="1">
            <a:off x="1856160" y="228564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4" name="Straight Arrow Connector 62"/>
          <p:cNvCxnSpPr/>
          <p:nvPr/>
        </p:nvCxnSpPr>
        <p:spPr>
          <a:xfrm>
            <a:off x="478512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5" name="Straight Arrow Connector 65"/>
          <p:cNvCxnSpPr/>
          <p:nvPr/>
        </p:nvCxnSpPr>
        <p:spPr>
          <a:xfrm>
            <a:off x="3642120" y="2357280"/>
            <a:ext cx="252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6" name="Straight Arrow Connector 66"/>
          <p:cNvCxnSpPr/>
          <p:nvPr/>
        </p:nvCxnSpPr>
        <p:spPr>
          <a:xfrm>
            <a:off x="2428920" y="2357280"/>
            <a:ext cx="216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7" name="Straight Arrow Connector 67"/>
          <p:cNvCxnSpPr/>
          <p:nvPr/>
        </p:nvCxnSpPr>
        <p:spPr>
          <a:xfrm>
            <a:off x="121320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8" name="Straight Arrow Connector 69"/>
          <p:cNvCxnSpPr/>
          <p:nvPr/>
        </p:nvCxnSpPr>
        <p:spPr>
          <a:xfrm flipH="1" flipV="1">
            <a:off x="1285200" y="2214360"/>
            <a:ext cx="429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9" name="Straight Arrow Connector 71"/>
          <p:cNvCxnSpPr/>
          <p:nvPr/>
        </p:nvCxnSpPr>
        <p:spPr>
          <a:xfrm>
            <a:off x="1213200" y="3857400"/>
            <a:ext cx="10440" cy="369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20" name="Straight Arrow Connector 72"/>
          <p:cNvCxnSpPr/>
          <p:nvPr/>
        </p:nvCxnSpPr>
        <p:spPr>
          <a:xfrm>
            <a:off x="1214280" y="4357800"/>
            <a:ext cx="35013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64296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c3e"/>
                </a:solidFill>
                <a:latin typeface="Calibri"/>
              </a:rPr>
              <a:t>III. Comportamentul spaţial al clienţilor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2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19B0-4C62-4E09-B177-0584A9EA87B9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31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2ACC-D457-4C13-8368-E9B03CA30A6D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paţiile pentru circulaţia clienţilor sunt următoare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a) căi principale de circulaţie – determină direcţia fluxului cumpărători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b) culoare pentru efectuarea cumpărăturilo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c) spaţii de staţionare – în faţa lifturilor, scărilor rulante, caselor de marca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a1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itle 1" descr=""/>
          <p:cNvPicPr/>
          <p:nvPr/>
        </p:nvPicPr>
        <p:blipFill>
          <a:blip r:embed="rId1"/>
          <a:stretch/>
        </p:blipFill>
        <p:spPr>
          <a:xfrm>
            <a:off x="646200" y="-365040"/>
            <a:ext cx="7626240" cy="1650960"/>
          </a:xfrm>
          <a:prstGeom prst="rect">
            <a:avLst/>
          </a:prstGeom>
          <a:ln w="0">
            <a:noFill/>
          </a:ln>
        </p:spPr>
      </p:pic>
      <p:sp>
        <p:nvSpPr>
          <p:cNvPr id="12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448E-BCF2-4BEA-B958-02669526EF76}" type="datetime">
              <a:rPr b="0" lang="ro-RO" sz="1600" spc="-1" strike="noStrike">
                <a:solidFill>
                  <a:srgbClr val="00364c"/>
                </a:solidFill>
                <a:latin typeface="Constantia"/>
              </a:rPr>
              <a:t>31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8DBC-3F13-4C95-9AB1-D390D702211C}" type="slidenum">
              <a:rPr b="0" lang="ro-RO" sz="1600" spc="-1" strike="noStrike">
                <a:solidFill>
                  <a:srgbClr val="00364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Brush Script MT"/>
              </a:rPr>
              <a:t>Fluxul mărfurilor şi ambalajelor într-un depozi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9" name="Rectangle 10"/>
          <p:cNvSpPr/>
          <p:nvPr/>
        </p:nvSpPr>
        <p:spPr>
          <a:xfrm>
            <a:off x="3571920" y="214308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11"/>
          <p:cNvSpPr/>
          <p:nvPr/>
        </p:nvSpPr>
        <p:spPr>
          <a:xfrm>
            <a:off x="4500720" y="2143080"/>
            <a:ext cx="194436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PRIMI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12"/>
          <p:cNvSpPr/>
          <p:nvPr/>
        </p:nvSpPr>
        <p:spPr>
          <a:xfrm>
            <a:off x="3571920" y="30002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13"/>
          <p:cNvSpPr/>
          <p:nvPr/>
        </p:nvSpPr>
        <p:spPr>
          <a:xfrm>
            <a:off x="3571920" y="39290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4"/>
          <p:cNvSpPr/>
          <p:nvPr/>
        </p:nvSpPr>
        <p:spPr>
          <a:xfrm>
            <a:off x="4500720" y="3000240"/>
            <a:ext cx="1944360" cy="482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SCĂRC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5"/>
          <p:cNvSpPr/>
          <p:nvPr/>
        </p:nvSpPr>
        <p:spPr>
          <a:xfrm>
            <a:off x="4500720" y="392904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POZIT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16"/>
          <p:cNvSpPr/>
          <p:nvPr/>
        </p:nvSpPr>
        <p:spPr>
          <a:xfrm>
            <a:off x="3571920" y="478620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7"/>
          <p:cNvSpPr/>
          <p:nvPr/>
        </p:nvSpPr>
        <p:spPr>
          <a:xfrm>
            <a:off x="4500720" y="478620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TRANSPORT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8"/>
          <p:cNvSpPr/>
          <p:nvPr/>
        </p:nvSpPr>
        <p:spPr>
          <a:xfrm>
            <a:off x="3571920" y="5643720"/>
            <a:ext cx="50328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9"/>
          <p:cNvSpPr/>
          <p:nvPr/>
        </p:nvSpPr>
        <p:spPr>
          <a:xfrm>
            <a:off x="4429080" y="5643720"/>
            <a:ext cx="194472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VÂNZ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9" name="Straight Arrow Connector 20"/>
          <p:cNvCxnSpPr>
            <a:stCxn id="1230" idx="2"/>
            <a:endCxn id="1233" idx="0"/>
          </p:cNvCxnSpPr>
          <p:nvPr/>
        </p:nvCxnSpPr>
        <p:spPr>
          <a:xfrm flipH="1">
            <a:off x="5471280" y="2574720"/>
            <a:ext cx="252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0" name="Straight Arrow Connector 21"/>
          <p:cNvCxnSpPr/>
          <p:nvPr/>
        </p:nvCxnSpPr>
        <p:spPr>
          <a:xfrm>
            <a:off x="5357520" y="350028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1" name="Straight Arrow Connector 22"/>
          <p:cNvCxnSpPr/>
          <p:nvPr/>
        </p:nvCxnSpPr>
        <p:spPr>
          <a:xfrm>
            <a:off x="5357520" y="435780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2" name="Straight Arrow Connector 23"/>
          <p:cNvCxnSpPr/>
          <p:nvPr/>
        </p:nvCxnSpPr>
        <p:spPr>
          <a:xfrm>
            <a:off x="5357520" y="521460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afcf"/>
            </a:gs>
            <a:gs pos="100000">
              <a:srgbClr val="ffe5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 txBox="1"/>
          <p:nvPr/>
        </p:nvSpPr>
        <p:spPr>
          <a:xfrm>
            <a:off x="285840" y="499680"/>
            <a:ext cx="8501040" cy="5506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comic"/>
              </a:rPr>
              <a:t>Activitate de învat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Reprezentaţi grafic un spaţiu comercial, având la bază cunoştinţele asimilate pe parcursul capitolului, experienţele proprii şi respectând următoarele cerinţ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magazinul este cu autoservire şi cu un singur nivel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e aplică implantarea în detaliu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gondolele sunt orientate în lungul axei longi-tudinale a sălii de vânza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Evidenţiaţi fluxul clienţil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Date Placeholder 2"/>
          <p:cNvSpPr/>
          <p:nvPr/>
        </p:nvSpPr>
        <p:spPr>
          <a:xfrm>
            <a:off x="428760" y="6286680"/>
            <a:ext cx="12142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1DE6-173A-47D6-B4FA-11B80BB293B1}" type="datetime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29AE-4917-4C70-8BC8-2378E30CA3AB}" type="slidenum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03T16:59:54Z</dcterms:created>
  <dc:creator>cristina maria</dc:creator>
  <dc:description/>
  <dc:language>en-US</dc:language>
  <cp:lastModifiedBy>cristina maria</cp:lastModifiedBy>
  <dcterms:modified xsi:type="dcterms:W3CDTF">2020-05-04T15:08:49Z</dcterms:modified>
  <cp:revision>16</cp:revision>
  <dc:subject/>
  <dc:title>Slide 1</dc:title>
</cp:coreProperties>
</file>