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6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5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85AF3-9455-4103-AABC-9A2AED1104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ADEC1-B02D-485E-8D62-DBFEEB11D3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4594D-30E6-4DB5-8170-FE34B358F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71468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1904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95F2B-BA1C-4527-B574-97A063D9A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71468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71468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904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1904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09B60-FADC-42D5-AE65-58091FDCF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71468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71468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71468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1904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1904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1904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84060-636C-484F-9DB7-791337809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7146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7146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468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468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700200" y="142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1468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71468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401904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7146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C3FE3-3B69-48F0-A081-9A3C3BAAF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71468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71468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401904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71468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71468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01904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71468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401904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468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71468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01904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401904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71468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71468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71468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401904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401904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401904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7146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FAA05-0675-46EF-9237-F4620C5A4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1468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71468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4026B-9B6C-4FBA-9CE7-6ECAE9125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3A5A0-CEBE-4CD1-BEF9-9FD23C349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00200" y="142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FA077-E52A-4063-87CE-CFDCFAF8E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71468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71468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1904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10E64-6C84-47A9-8175-BF0709670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1468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1468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1904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03293-4207-4983-B2A7-63A097E60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71468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71468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1904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85471-1369-4BD6-A3A1-FAF129BB1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7146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37080"/>
            <a:ext cx="2133720" cy="33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37080"/>
            <a:ext cx="2895840" cy="33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37080"/>
            <a:ext cx="2133720" cy="33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DFCDF-C2DE-4245-B5C0-727859AF48B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7146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4360" y="5155920"/>
            <a:ext cx="7772400" cy="79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Proiect na</a:t>
            </a:r>
            <a:r>
              <a:rPr b="1" lang="ro-RO" sz="1800" spc="-1" strike="noStrike">
                <a:solidFill>
                  <a:srgbClr val="008000"/>
                </a:solidFill>
                <a:latin typeface="Arial"/>
              </a:rPr>
              <a:t>ț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ional Patrula de </a:t>
            </a:r>
            <a:r>
              <a:rPr b="1" lang="ro-RO" sz="1800" spc="-1" strike="noStrike">
                <a:solidFill>
                  <a:srgbClr val="008000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eciclare</a:t>
            </a:r>
            <a:endParaRPr b="0" lang="en-US" sz="18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Box 3"/>
          <p:cNvSpPr/>
          <p:nvPr/>
        </p:nvSpPr>
        <p:spPr>
          <a:xfrm>
            <a:off x="539640" y="1197000"/>
            <a:ext cx="8280360" cy="40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ctombrie -Noiembrie 201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mplasarea în fiecar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oca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ț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e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 a câte unui kit de colectare DEEE și distribu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a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 materia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or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 informa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cembrie 2012  - Iunie 201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erioada de colectare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 organizare proiecte individu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erioada de raportare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, evaluare și î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cheierea pilotului cu premierea c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â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ig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oril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Mecanica p</a:t>
            </a:r>
            <a:r>
              <a:rPr b="0" lang="ro-RO" sz="3200" spc="-1" strike="noStrike">
                <a:solidFill>
                  <a:srgbClr val="008000"/>
                </a:solidFill>
                <a:latin typeface="Arial"/>
              </a:rPr>
              <a:t>roiectului pe scurt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11280" y="128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Materiale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113" name="Picture 5" descr="Z:\Lansari &amp; Events\Campanii\Zona Eco\Visuals + fisiere de productie\Concept Zona Eco.jpg"/>
          <p:cNvPicPr/>
          <p:nvPr/>
        </p:nvPicPr>
        <p:blipFill>
          <a:blip r:embed="rId1"/>
          <a:stretch/>
        </p:blipFill>
        <p:spPr>
          <a:xfrm>
            <a:off x="380880" y="1155600"/>
            <a:ext cx="3733920" cy="50929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8" descr="Flyer Bateriada_Page_1.jpg"/>
          <p:cNvPicPr/>
          <p:nvPr/>
        </p:nvPicPr>
        <p:blipFill>
          <a:blip r:embed="rId2"/>
          <a:stretch/>
        </p:blipFill>
        <p:spPr>
          <a:xfrm rot="21270600">
            <a:off x="3929040" y="2701800"/>
            <a:ext cx="1501920" cy="31831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3" descr="Flyer colectare becuri curbe_Page_1.jpg"/>
          <p:cNvPicPr/>
          <p:nvPr/>
        </p:nvPicPr>
        <p:blipFill>
          <a:blip r:embed="rId3"/>
          <a:stretch/>
        </p:blipFill>
        <p:spPr>
          <a:xfrm rot="21169200">
            <a:off x="5552640" y="2572920"/>
            <a:ext cx="1474920" cy="31258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4" descr="Flyer DEEE Final curbe_Page_1.jpg"/>
          <p:cNvPicPr/>
          <p:nvPr/>
        </p:nvPicPr>
        <p:blipFill>
          <a:blip r:embed="rId4"/>
          <a:stretch/>
        </p:blipFill>
        <p:spPr>
          <a:xfrm rot="274800">
            <a:off x="7070400" y="2619000"/>
            <a:ext cx="1473120" cy="312588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7"/>
          <p:cNvSpPr/>
          <p:nvPr/>
        </p:nvSpPr>
        <p:spPr>
          <a:xfrm>
            <a:off x="4067280" y="1271520"/>
            <a:ext cx="468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kit de colectar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 pliante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informative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9" descr="Scoala_Page_02.jpg"/>
          <p:cNvPicPr/>
          <p:nvPr/>
        </p:nvPicPr>
        <p:blipFill>
          <a:blip r:embed="rId1"/>
          <a:stretch/>
        </p:blipFill>
        <p:spPr>
          <a:xfrm>
            <a:off x="6948360" y="3352680"/>
            <a:ext cx="2189160" cy="2971800"/>
          </a:xfrm>
          <a:prstGeom prst="rect">
            <a:avLst/>
          </a:prstGeom>
          <a:ln w="0">
            <a:noFill/>
          </a:ln>
        </p:spPr>
      </p:pic>
      <p:sp>
        <p:nvSpPr>
          <p:cNvPr id="119" name="TextBox 6"/>
          <p:cNvSpPr/>
          <p:nvPr/>
        </p:nvSpPr>
        <p:spPr>
          <a:xfrm>
            <a:off x="3492360" y="1571760"/>
            <a:ext cx="3672000" cy="39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Broşura pentru </a:t>
            </a:r>
            <a:r>
              <a:rPr b="1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gradiniţă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 – pe tipologia unei cărţi de colorat şi poez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Broşura pentru </a:t>
            </a:r>
            <a:r>
              <a:rPr b="1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şcoala generală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– tip caiet de curs, care va include informaţii şi pagini libere pentru notiţ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Broşura pentru </a:t>
            </a:r>
            <a:r>
              <a:rPr b="1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liceu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 – tip jurnal, ce va conţine informaţii şi sfaturi utile despre colectarea DEE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7" descr="Scoala_Page_01.jpg"/>
          <p:cNvPicPr/>
          <p:nvPr/>
        </p:nvPicPr>
        <p:blipFill>
          <a:blip r:embed="rId2"/>
          <a:stretch/>
        </p:blipFill>
        <p:spPr>
          <a:xfrm>
            <a:off x="468360" y="1447920"/>
            <a:ext cx="3424320" cy="464796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8000"/>
                </a:solidFill>
                <a:latin typeface="Arial"/>
              </a:rPr>
              <a:t>Broșuri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Box 3"/>
          <p:cNvSpPr/>
          <p:nvPr/>
        </p:nvSpPr>
        <p:spPr>
          <a:xfrm>
            <a:off x="684360" y="1557360"/>
            <a:ext cx="770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8000"/>
                </a:solidFill>
                <a:latin typeface="Arial"/>
              </a:rPr>
              <a:t>Postere, insigne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124" name="Picture 2" descr="C:\Gabi\RoRec\Proiecte\Patrula de reciclare\Ghid de lucru\Anexe\8_13_Materiale promo\12_Poster Patrula 2011-2012.JPG"/>
          <p:cNvPicPr/>
          <p:nvPr/>
        </p:nvPicPr>
        <p:blipFill>
          <a:blip r:embed="rId1"/>
          <a:stretch/>
        </p:blipFill>
        <p:spPr>
          <a:xfrm>
            <a:off x="755640" y="1341360"/>
            <a:ext cx="3456000" cy="46087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5" descr="C:\Gabi\RoRec\Proiecte\Patrula de reciclare\Ghid de lucru\Anexe\8_13_Materiale promo\Insigna.jpg"/>
          <p:cNvPicPr/>
          <p:nvPr/>
        </p:nvPicPr>
        <p:blipFill>
          <a:blip r:embed="rId2"/>
          <a:stretch/>
        </p:blipFill>
        <p:spPr>
          <a:xfrm>
            <a:off x="4511520" y="1916280"/>
            <a:ext cx="394812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Box 3"/>
          <p:cNvSpPr/>
          <p:nvPr/>
        </p:nvSpPr>
        <p:spPr>
          <a:xfrm>
            <a:off x="684360" y="1125360"/>
            <a:ext cx="7704000" cy="49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Colectare și 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tivităţi derulate în perioada proiectul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ctivitatea de colecta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tivităţi constante de colectare DEEE la mini punctul de colectare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di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fiecare şco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titatea minimă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 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1 kilogram DEEE/elev membru în Patrula de recicla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ctivităţi propri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movarea activităţilor de colectare DEEE în proximitatea unităţii de învăţământ, în familie, prietenilor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etc cu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cop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u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form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i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populaţiei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asupra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fectel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o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nocive ale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 DEE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pentru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ănăt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a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 mediul înconjură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ofesor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u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coordonator utiliz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z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formularul disponibil online, pe contul personal (la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aportează activita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, pentru anun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ț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rea acestor activită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ț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 a rezultatelor ob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ț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u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înscrierea în concursul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pune po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pentru ediția următoare a proiectulu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Mecanica p</a:t>
            </a:r>
            <a:r>
              <a:rPr b="0" lang="ro-RO" sz="3200" spc="-1" strike="noStrike">
                <a:solidFill>
                  <a:srgbClr val="008000"/>
                </a:solidFill>
                <a:latin typeface="Arial"/>
              </a:rPr>
              <a:t>roiectului pe scurt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2"/>
          <p:cNvSpPr/>
          <p:nvPr/>
        </p:nvSpPr>
        <p:spPr>
          <a:xfrm>
            <a:off x="1403280" y="260280"/>
            <a:ext cx="7359840" cy="80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Comunicare social med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5"/>
          <p:cNvSpPr/>
          <p:nvPr/>
        </p:nvSpPr>
        <p:spPr>
          <a:xfrm>
            <a:off x="755640" y="1413000"/>
            <a:ext cx="748836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gina de Facebook poate fi folosit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entru comunicarea activit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ăț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or Patrulei de Reciclare locale at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â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 de c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e institu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ț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ile participante c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â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de c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e RZ/RL pri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un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ț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ea kg colectate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pre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tarea de poze cu membrii Patrulei de Reciclare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î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 ac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ț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u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3" descr=""/>
          <p:cNvPicPr/>
          <p:nvPr/>
        </p:nvPicPr>
        <p:blipFill>
          <a:blip r:embed="rId1"/>
          <a:stretch/>
        </p:blipFill>
        <p:spPr>
          <a:xfrm>
            <a:off x="914400" y="3751200"/>
            <a:ext cx="4449600" cy="2500200"/>
          </a:xfrm>
          <a:prstGeom prst="rect">
            <a:avLst/>
          </a:prstGeom>
          <a:ln w="0">
            <a:noFill/>
          </a:ln>
        </p:spPr>
      </p:pic>
      <p:sp>
        <p:nvSpPr>
          <p:cNvPr id="131" name="TextBox 5"/>
          <p:cNvSpPr/>
          <p:nvPr/>
        </p:nvSpPr>
        <p:spPr>
          <a:xfrm>
            <a:off x="5508720" y="5662440"/>
            <a:ext cx="30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cebook.com/Patrula de Reciclare –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peste </a:t>
            </a: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4.70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fa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8000"/>
                </a:solidFill>
                <a:latin typeface="Arial"/>
              </a:rPr>
              <a:t>Diplome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133" name="Picture 4" descr="C:\Gabi\RoRec\Proiecte\Patrula de reciclare\Ghid de lucru\Anexe\14_Diplome\14.1_Certificat de membru.jpg"/>
          <p:cNvPicPr/>
          <p:nvPr/>
        </p:nvPicPr>
        <p:blipFill>
          <a:blip r:embed="rId1"/>
          <a:stretch/>
        </p:blipFill>
        <p:spPr>
          <a:xfrm>
            <a:off x="684360" y="1413000"/>
            <a:ext cx="3671640" cy="23763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5" descr="C:\Gabi\RoRec\Proiecte\Patrula de reciclare\Ghid de lucru\Anexe\14_Diplome\14.4_Special - cea mai activa institutie.jpg"/>
          <p:cNvPicPr/>
          <p:nvPr/>
        </p:nvPicPr>
        <p:blipFill>
          <a:blip r:embed="rId2"/>
          <a:stretch/>
        </p:blipFill>
        <p:spPr>
          <a:xfrm>
            <a:off x="4572000" y="1413000"/>
            <a:ext cx="3816360" cy="237636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6" descr="C:\Gabi\RoRec\Proiecte\Patrula de reciclare\Ghid de lucru\Anexe\14_Diplome\14.3_Diploma coordonator.jpg"/>
          <p:cNvPicPr/>
          <p:nvPr/>
        </p:nvPicPr>
        <p:blipFill>
          <a:blip r:embed="rId3"/>
          <a:stretch/>
        </p:blipFill>
        <p:spPr>
          <a:xfrm>
            <a:off x="684360" y="4005360"/>
            <a:ext cx="3743280" cy="208764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7" descr="C:\Gabi\RoRec\Proiecte\Patrula de reciclare\Ghid de lucru\Anexe\14_Diplome\14.5_Special - cea mai creativa.jpg"/>
          <p:cNvPicPr/>
          <p:nvPr/>
        </p:nvPicPr>
        <p:blipFill>
          <a:blip r:embed="rId4"/>
          <a:stretch/>
        </p:blipFill>
        <p:spPr>
          <a:xfrm>
            <a:off x="4643280" y="4005360"/>
            <a:ext cx="374508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Dupa incheiere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700280"/>
            <a:ext cx="8229600" cy="44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estionar de feed-bac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rivind proiectul pilot – puncte slabe, puncte forte, recomandări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– PC, RZ/R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aliza feed-back-ului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de către organizator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aluare proiect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 și eventual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îmbunătăţiri/modificări pentru ediţia următoa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ă încheierea programului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 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iturile de colectar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rămân în instituţiile participante şi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est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încurajată continuarea activităţilor de colectar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7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eprezentantul zonal RoRec r</a:t>
            </a:r>
            <a:r>
              <a:rPr b="0" lang="ro-RO" sz="17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ro-RO" sz="1700" spc="-1" strike="noStrike">
                <a:solidFill>
                  <a:srgbClr val="000000"/>
                </a:solidFill>
                <a:latin typeface="Arial"/>
              </a:rPr>
              <a:t>â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ne la dispozi</a:t>
            </a:r>
            <a:r>
              <a:rPr b="0" lang="ro-RO" sz="1700" spc="-1" strike="noStrike">
                <a:solidFill>
                  <a:srgbClr val="000000"/>
                </a:solidFill>
                <a:latin typeface="Arial"/>
              </a:rPr>
              <a:t>ț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ia institu</a:t>
            </a:r>
            <a:r>
              <a:rPr b="0" lang="ro-RO" sz="1700" spc="-1" strike="noStrike">
                <a:solidFill>
                  <a:srgbClr val="000000"/>
                </a:solidFill>
                <a:latin typeface="Arial"/>
              </a:rPr>
              <a:t>ț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iilor pentru golirea containerelor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68360" y="278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THANK YOU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Ce este?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7146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1" lang="vi-VN" sz="2000" spc="-1" strike="noStrike">
                <a:solidFill>
                  <a:srgbClr val="000000"/>
                </a:solidFill>
                <a:latin typeface="Arial"/>
              </a:rPr>
              <a:t>proiect realizat de RoRec în parteneriat cu Primăriile şi Inspectoratele Şcolare Judeţene 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di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udetele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în care primăriile şi Asociaţia RoRec colaborează prin implementarea de campanii de colectare a deşeurilor de echipamente electrice şi electronice (DEEE) şi în vederea creării unei infrastructuri coerente de colectare a acestui tip de deşeuri.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000" spc="-1" strike="noStrike">
                <a:solidFill>
                  <a:srgbClr val="000000"/>
                </a:solidFill>
                <a:latin typeface="Arial"/>
              </a:rPr>
              <a:t>Program educaţional de protecţie a mediului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, centrat pe </a:t>
            </a:r>
            <a:r>
              <a:rPr b="1" lang="vi-VN" sz="2000" spc="-1" strike="noStrike">
                <a:solidFill>
                  <a:srgbClr val="000000"/>
                </a:solidFill>
                <a:latin typeface="Arial"/>
              </a:rPr>
              <a:t>colectarea şi reciclarea DEEE 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în unităţile de învăţământ, pentru a contribui la atingerea obiectivelor cantitative impuse de normele europene, anume de 4 kilograme/locuitor anu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Obiective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Arial"/>
              </a:rPr>
              <a:t>Informare/conștientizare – 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ajută</a:t>
            </a:r>
            <a:r>
              <a:rPr b="1" lang="ro-RO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elevii să înţeleagă unele dintre cauzele poluării mediului şi să conştientizeze faptul că reducerea acestora depinde de implicarea fiecăruia. 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Arial"/>
              </a:rPr>
              <a:t>Educare -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 prin încurajarea obiceiului de colectare selectivă a deşeurilor de echipamente electrice si electronice (DEEE). Copiii pot deveni ambasadori ai unui mesaj ecologic şi modele pentru cei din jur, educându-și părinţii în sensul unei atitudini ecologice responsabil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Arial"/>
              </a:rPr>
              <a:t>Colectare 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de echipamente mici, baterii și acumulatori portabili, lămpi și neoane în limita minimă de 1kg/elev înscris în progra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Pilot 2011 – Mun. Timi</a:t>
            </a:r>
            <a:r>
              <a:rPr b="0" lang="ro-RO" sz="3200" spc="-1" strike="noStrike">
                <a:solidFill>
                  <a:srgbClr val="008000"/>
                </a:solidFill>
                <a:latin typeface="Arial"/>
              </a:rPr>
              <a:t>ș</a:t>
            </a: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oara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92" name="Picture 3" descr="Logo_v5-03-01.jpg"/>
          <p:cNvPicPr/>
          <p:nvPr/>
        </p:nvPicPr>
        <p:blipFill>
          <a:blip r:embed="rId1"/>
          <a:stretch/>
        </p:blipFill>
        <p:spPr>
          <a:xfrm>
            <a:off x="324000" y="1916280"/>
            <a:ext cx="4170240" cy="3957480"/>
          </a:xfrm>
          <a:prstGeom prst="rect">
            <a:avLst/>
          </a:prstGeom>
          <a:ln w="0">
            <a:noFill/>
          </a:ln>
        </p:spPr>
      </p:pic>
      <p:sp>
        <p:nvSpPr>
          <p:cNvPr id="93" name="TextBox 7"/>
          <p:cNvSpPr/>
          <p:nvPr/>
        </p:nvSpPr>
        <p:spPr>
          <a:xfrm>
            <a:off x="4140360" y="1700280"/>
            <a:ext cx="45352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nsat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 mijlocul lunii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lie 2011,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 76 de institu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ț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i educa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ț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onale din Timi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ar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ecare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al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 avut un profesor coordonator r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unz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r de derularea proiectulu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ste 22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00 de copii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scri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ecare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al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 fost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curajat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lecteze DEEE, baterii, neoane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 becuri prin intermediul containerelor puse la dispozi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ț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e de RoRe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lot finalizat pe 1 Iun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Content Placeholder 3" descr="DSC07765.JPG"/>
          <p:cNvPicPr/>
          <p:nvPr/>
        </p:nvPicPr>
        <p:blipFill>
          <a:blip r:embed="rId1"/>
          <a:stretch/>
        </p:blipFill>
        <p:spPr>
          <a:xfrm>
            <a:off x="457200" y="1295280"/>
            <a:ext cx="3600360" cy="20242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4" descr="IMG_0946.JPG"/>
          <p:cNvPicPr/>
          <p:nvPr/>
        </p:nvPicPr>
        <p:blipFill>
          <a:blip r:embed="rId2"/>
          <a:stretch/>
        </p:blipFill>
        <p:spPr>
          <a:xfrm>
            <a:off x="4343400" y="1219320"/>
            <a:ext cx="4216320" cy="31622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5" descr="moto_0083.jpg"/>
          <p:cNvPicPr/>
          <p:nvPr/>
        </p:nvPicPr>
        <p:blipFill>
          <a:blip r:embed="rId3"/>
          <a:stretch/>
        </p:blipFill>
        <p:spPr>
          <a:xfrm>
            <a:off x="457200" y="3505320"/>
            <a:ext cx="3774960" cy="28191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6" descr="DSCF5572.JPG"/>
          <p:cNvPicPr/>
          <p:nvPr/>
        </p:nvPicPr>
        <p:blipFill>
          <a:blip r:embed="rId4"/>
          <a:stretch/>
        </p:blipFill>
        <p:spPr>
          <a:xfrm>
            <a:off x="4343400" y="4572000"/>
            <a:ext cx="1930320" cy="14479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7" descr="DSCF5569.JPG"/>
          <p:cNvPicPr/>
          <p:nvPr/>
        </p:nvPicPr>
        <p:blipFill>
          <a:blip r:embed="rId5"/>
          <a:stretch/>
        </p:blipFill>
        <p:spPr>
          <a:xfrm>
            <a:off x="6477120" y="4572000"/>
            <a:ext cx="1981080" cy="148608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Pilot 2011 – Mun. Timi</a:t>
            </a:r>
            <a:r>
              <a:rPr b="0" lang="ro-RO" sz="3200" spc="-1" strike="noStrike">
                <a:solidFill>
                  <a:srgbClr val="008000"/>
                </a:solidFill>
                <a:latin typeface="Arial"/>
              </a:rPr>
              <a:t>ș</a:t>
            </a: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oara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Box 3"/>
          <p:cNvSpPr/>
          <p:nvPr/>
        </p:nvSpPr>
        <p:spPr>
          <a:xfrm>
            <a:off x="4114800" y="1571760"/>
            <a:ext cx="4419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 fost oferite 10 premii celor mai active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ste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1.300 k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EEE colectate la finalul pilotulu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4" descr="P1090802.JPG"/>
          <p:cNvPicPr/>
          <p:nvPr/>
        </p:nvPicPr>
        <p:blipFill>
          <a:blip r:embed="rId1"/>
          <a:stretch/>
        </p:blipFill>
        <p:spPr>
          <a:xfrm>
            <a:off x="4641840" y="3352680"/>
            <a:ext cx="3587760" cy="26910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DSC07114.JPG"/>
          <p:cNvPicPr/>
          <p:nvPr/>
        </p:nvPicPr>
        <p:blipFill>
          <a:blip r:embed="rId2"/>
          <a:stretch/>
        </p:blipFill>
        <p:spPr>
          <a:xfrm>
            <a:off x="533520" y="1676520"/>
            <a:ext cx="3314520" cy="441936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Pilot 2011 – Mun. Timi</a:t>
            </a:r>
            <a:r>
              <a:rPr b="0" lang="ro-RO" sz="3200" spc="-1" strike="noStrike">
                <a:solidFill>
                  <a:srgbClr val="008000"/>
                </a:solidFill>
                <a:latin typeface="Arial"/>
              </a:rPr>
              <a:t>ș</a:t>
            </a: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oara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Edi</a:t>
            </a:r>
            <a:r>
              <a:rPr b="0" lang="ro-RO" sz="3200" spc="-1" strike="noStrike">
                <a:solidFill>
                  <a:srgbClr val="008000"/>
                </a:solidFill>
                <a:latin typeface="Arial"/>
              </a:rPr>
              <a:t>ț</a:t>
            </a: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ie an </a:t>
            </a:r>
            <a:r>
              <a:rPr b="0" lang="ro-RO" sz="3200" spc="-1" strike="noStrike">
                <a:solidFill>
                  <a:srgbClr val="008000"/>
                </a:solidFill>
                <a:latin typeface="Arial"/>
              </a:rPr>
              <a:t>ș</a:t>
            </a: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colar 2011- 2012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05" name="TextBox 4"/>
          <p:cNvSpPr/>
          <p:nvPr/>
        </p:nvSpPr>
        <p:spPr>
          <a:xfrm>
            <a:off x="684360" y="1689120"/>
            <a:ext cx="77752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ioada desf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ăș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are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iembrie 2011 – 31 mai 2012 cu festivitatea de premiere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 cursul lunii iunie 2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 jude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ț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 participan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Bistri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ț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, C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a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ș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i, Hunedoara, Teleorman, Timi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ș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, Tulcea, Prahov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9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stitu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ț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i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are, pest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8.30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pii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scri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8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e loca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ț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Box 4"/>
          <p:cNvSpPr/>
          <p:nvPr/>
        </p:nvSpPr>
        <p:spPr>
          <a:xfrm>
            <a:off x="684360" y="1341360"/>
            <a:ext cx="7704000" cy="469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Actor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  <a:ea typeface="Arial"/>
              </a:rPr>
              <a:t>Organizator – RoRec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  <a:ea typeface="Arial"/>
              </a:rPr>
              <a:t>Parteneri – primăriile locale și inspectoratele județe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  <a:ea typeface="Arial"/>
              </a:rPr>
              <a:t>Participanți - toate instituţiile de învăţământ preşcolar, şcolar şi liceal din judeţele/oraşele în care organizatorul a încheiat parteneriate cu Inspectoratul Școlar Judeţean şi Primăria aferent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si care s-au inscris in proi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Aria de desfășurare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i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ț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e 2012: 7 jude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ț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 (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Bistri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ț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, C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a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ș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i, Hunedoara, Teleorman, Timi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ș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, Tulcea, Prahov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extindere în vii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Perioada de desfășurare 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rata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anu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i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șco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8000"/>
                </a:solidFill>
                <a:latin typeface="Arial"/>
              </a:rPr>
              <a:t>Aspecte organizatorice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Box 3"/>
          <p:cNvSpPr/>
          <p:nvPr/>
        </p:nvSpPr>
        <p:spPr>
          <a:xfrm>
            <a:off x="684360" y="1197000"/>
            <a:ext cx="8064360" cy="472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i –august 201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tabilirea parteneriatel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cu autorităţile locale şi cu Inspectoratele Şcolare Judeţene și semnarea protocolului de colaborare tripartit; 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Septembrie - Octombrie 201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nformarea unităţilor de învăţămâ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din localităţile intrate în proiect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primăriil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 inspectoratel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;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emnarea profesorului coordonator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 (PC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al programului din fiecare instituție de învățământ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împuternicir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e 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rector instituţie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trimisă către organizator prin fax sau e-mail);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P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; 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ezentarea proiectului către profesorii coordonator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din instituţiile care au decis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î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scrierea în proiec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Mecanica p</a:t>
            </a:r>
            <a:r>
              <a:rPr b="0" lang="ro-RO" sz="3200" spc="-1" strike="noStrike">
                <a:solidFill>
                  <a:srgbClr val="008000"/>
                </a:solidFill>
                <a:latin typeface="Arial"/>
              </a:rPr>
              <a:t>roiectului pe scurt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2T10:08:18Z</dcterms:created>
  <dc:creator>gabriel</dc:creator>
  <dc:description/>
  <dc:language>en-US</dc:language>
  <cp:lastModifiedBy>Cristina</cp:lastModifiedBy>
  <dcterms:modified xsi:type="dcterms:W3CDTF">2013-01-30T10:23:30Z</dcterms:modified>
  <cp:revision>135</cp:revision>
  <dc:subject/>
  <dc:title>Slide 1</dc:title>
</cp:coreProperties>
</file>