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83756-008A-4BE2-8C9B-97A430E8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5D131-8A0A-497B-AD82-27AE60EA3D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2886-15BB-46A4-9D3C-F2E6B4C5B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2F01-3F0E-417B-A4B1-C3C760389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074A-3600-4FEF-8C13-78D428B0C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1AB8-36B8-4C4D-9469-800AD6192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63FA-CFC9-4ADE-8B53-AE3273F8D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D948-C463-483A-B646-E95522EA3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ABB7-4B8B-4310-B7A4-0CC46800D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14DE-A7EB-4BEC-9B3A-EA867ABA0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E1C0-67E5-491F-B61E-BF57538D2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9451-8998-4AEA-957B-04D40968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3042-C5E4-470B-BB27-3CF430DB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4182-6EC4-4822-B84E-6C0CC961C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20B0-0BC1-4A2E-8D37-A68C4AC6D2F7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A877-55BA-4525-8A8B-BF82ADD8AB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copaparazzi.ro/" TargetMode="External"/><Relationship Id="rId3" Type="http://schemas.openxmlformats.org/officeDocument/2006/relationships/image" Target="../media/image3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guerillaverde.ro/" TargetMode="External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facebook.com/people/Guerilla-Verde/100000440101230" TargetMode="External"/><Relationship Id="rId3" Type="http://schemas.openxmlformats.org/officeDocument/2006/relationships/hyperlink" Target="http://twitter.com/GuerillaVerde" TargetMode="External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slideshare.net/GuerillaVerde/guerilla-verde-iii-interpretare-chestionare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hyperlink" Target="http://www.youtube.com/watch?v=wnjx6KETmi4" TargetMode="External"/><Relationship Id="rId8" Type="http://schemas.openxmlformats.org/officeDocument/2006/relationships/hyperlink" Target="file:///C:/Documents%20and%20Settings/Ileana/Local%20Settings/Temporary%20Internet%20Files/Content.Outlook/4WFIP1GS/noimpactman.typepad.com" TargetMode="External"/><Relationship Id="rId9" Type="http://schemas.openxmlformats.org/officeDocument/2006/relationships/hyperlink" Target="http://www.youtube.com/watch?v=ENcV5zeMILs" TargetMode="External"/><Relationship Id="rId10" Type="http://schemas.openxmlformats.org/officeDocument/2006/relationships/hyperlink" Target="http://www.youtube.com/watch?v=G8IozVfph7I" TargetMode="External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2143080" y="92880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Calibri"/>
              </a:rPr>
              <a:t>prima caravana educationala  de film cu mesaj ecologic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 din Romani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ebruarie -  mai 2013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siglaguerilla.jpg"/>
          <p:cNvPicPr/>
          <p:nvPr/>
        </p:nvPicPr>
        <p:blipFill>
          <a:blip r:embed="rId2"/>
          <a:stretch/>
        </p:blipFill>
        <p:spPr>
          <a:xfrm>
            <a:off x="2857680" y="2286000"/>
            <a:ext cx="4092480" cy="1106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oncurs foto – video </a:t>
            </a:r>
            <a:br>
              <a:rPr sz="2800"/>
            </a:b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in cadrul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EcoPaparazzi este un concurs si o platforma de comunicare pentru toti cei interesati de ecologi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Concursul foto - video de "politie verde a bunului simt" se adreseaza tinerilor si nu numai. Se desfasoara in fiecare luna pe 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ecopaparazzi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. Pot participa fotografii sau filmulete care reflecta modul in care comunitatile locale respecta - sau nu - mediul inconjurator. Se poate inscrie oricine, indiferent de varsta sau localitatea de provenient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La finalul fiecarei editii a concursului, organizatorii vor depune sesizari privind una sau mai multe din problemele semnalate de participantii la concurs catre autoritatle competente. Pe site-ul www.ecopaparazzi.ro va putea fi urmarit in ce stadiu se afla respectivele sesizari – daca au primit un raspuns din partea autoritatilor, daca au fost solutionate etc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Platforma de comunicare a aparut ca urmare a interesului pe care l-au manifestat cei care au participat la concurs de-a lungul timpului. EcoPaparazzi.ro urmareste sa ofere tuturor celor care il acceseaza o imagine in timp real a problemelor de mediu din Roman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  <a:ea typeface="Arial"/>
              </a:rPr>
              <a:t>Obiectivul pe termen lung este construirea unei comunitati cu o voce puternica, ce va putea sanctiona relele practici si se va implica in actiuni practice pentru protectia mediului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103" name="Content Placeholder 3" descr="ecopaparazii aparat foto.jpg"/>
          <p:cNvPicPr/>
          <p:nvPr/>
        </p:nvPicPr>
        <p:blipFill>
          <a:blip r:embed="rId4"/>
          <a:stretch/>
        </p:blipFill>
        <p:spPr>
          <a:xfrm>
            <a:off x="5857920" y="214200"/>
            <a:ext cx="310500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000000"/>
                </a:solidFill>
                <a:latin typeface="Calibri"/>
              </a:rPr>
              <a:t>Conta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Nicoleta Tal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anaging Dire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Media Image Factory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e-mai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nicoleta.talpes@imagefactory.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cell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724 314 045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h/fax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: 031.10. 74.17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contact@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Calibri"/>
              </a:rPr>
              <a:t>www.guerillaverde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imagefactory.ro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Comment &amp; Like pe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cebook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Retweet: </a:t>
            </a:r>
            <a:r>
              <a:rPr b="0" lang="fr-FR" sz="1600" spc="-1" strike="noStrike">
                <a:solidFill>
                  <a:srgbClr val="c0504d"/>
                </a:solidFill>
                <a:latin typeface="Calibri"/>
              </a:rPr>
              <a:t>@GuerillaVerd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214308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cep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arteneri.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imoniale partener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3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ani,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6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editi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raseu si fil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Ecopaparazz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tac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71280"/>
            <a:ext cx="928800" cy="3574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28880" y="21384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onceptul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2000160" y="1356840"/>
            <a:ext cx="6757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i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o-RO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guerillaverde.ro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)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face parte dintr-un proiect mai amplu, denumit generic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BET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(Better Education Through Innovation), care isi propune sa contribuie la educatia generatiei de maine prin intermediul filmulu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este prima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aravana educationala de filme cu mesaj ecologic, initiativa Media Image Factory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, agentie de comunicare specializata in dezvoltarea de proiecte social-cu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l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ur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Proiectul se deruleaza sub egida Ministerul Mediului, Ministeril Educatiei si  cu sprijinul primariilor oraselor gazd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NOU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ticipantii la proiectii care vor aduce carti/filme/articole cu teme eco vor primi bilete la tombola, unde vor avea ocazia de a castiga premii verzi (de ex. biciclete, articole sportive etc)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si dezvolt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lubului Guerilla V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de, format din cadre didactic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rearea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logulu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unde va fi tinut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urnalul cara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anei si vor fi posturi in egala masura ale organizatorilor, dar si ale voluntarilor, ale profesorilor si ale elevilo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13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itre 1"/>
          <p:cNvSpPr/>
          <p:nvPr/>
        </p:nvSpPr>
        <p:spPr>
          <a:xfrm>
            <a:off x="1357200" y="4287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Partener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ooter Placeholder 11"/>
          <p:cNvSpPr/>
          <p:nvPr/>
        </p:nvSpPr>
        <p:spPr>
          <a:xfrm>
            <a:off x="5105520" y="6033960"/>
            <a:ext cx="2895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Century"/>
              </a:rPr>
              <a:t>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Century"/>
              </a:rPr>
              <a:t>un proiect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0" descr="PARTENERI GV.png"/>
          <p:cNvPicPr/>
          <p:nvPr/>
        </p:nvPicPr>
        <p:blipFill>
          <a:blip r:embed="rId2"/>
          <a:stretch/>
        </p:blipFill>
        <p:spPr>
          <a:xfrm>
            <a:off x="3286080" y="-4680"/>
            <a:ext cx="5143680" cy="68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Ce spun partenerii nostri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2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 txBox="1"/>
          <p:nvPr/>
        </p:nvSpPr>
        <p:spPr>
          <a:xfrm>
            <a:off x="1643040" y="1500120"/>
            <a:ext cx="35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Proiectul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se potriveste perfect cu misiunea UPC de Responsabilitate Sociala, aceea de a investi in educatia copiilor pentru a-i ajuta sa isi construiasca un viitor mai bun. Prin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implicarea sa in toate aspectele care privesc copiii de astazi, inclusiv constientizarea mediului inconjurator, UPC Romania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doreste sa trasforme mediul educational intr-un colt verde de care sa se poata bucura.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initiativa educativa si ecologica inedita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rezinta o continuare naturala a misiunii noastre, unde ne unim forţele cu partenerii nostrii de proiect pentru o cauza buna.”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Ariana Badin – PR &amp; Communication Manager UPC Romania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Content Placeholder 2"/>
          <p:cNvSpPr/>
          <p:nvPr/>
        </p:nvSpPr>
        <p:spPr>
          <a:xfrm>
            <a:off x="5315040" y="1285920"/>
            <a:ext cx="325764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4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pt-BR" sz="1400" spc="-1" strike="noStrike">
                <a:solidFill>
                  <a:srgbClr val="000000"/>
                </a:solidFill>
                <a:latin typeface="Calibri"/>
              </a:rPr>
              <a:t>Tetra Pak este lider mondial in randul companiilor furnizoare de soluţii de procesare şi ambalare a alimentelor lichide. 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Ne asumam cu responsabilitate aceasta pozitie, generand crestere in armonie cu principiile sustenabilitatii. Motto-ul nostru “PROTEJEAZA CE E BUN” reflectă viziunea noastră de a oferi alimente sigure şi disponibile oriunde, dar si actiuni de educare in spiritul protectiei mediului. Credem ca numai deprinderea de a colecta selectiv poate contribui la o mai buna gestionare a resurselor planetei. </a:t>
            </a:r>
            <a:r>
              <a:rPr b="0" i="1" lang="it-IT" sz="1400" spc="-1" strike="noStrike">
                <a:solidFill>
                  <a:srgbClr val="000000"/>
                </a:solidFill>
                <a:latin typeface="Calibri"/>
              </a:rPr>
              <a:t>Guerilla Verde</a:t>
            </a:r>
            <a:r>
              <a:rPr b="0" lang="it-IT" sz="1400" spc="-1" strike="noStrike">
                <a:solidFill>
                  <a:srgbClr val="000000"/>
                </a:solidFill>
                <a:latin typeface="Calibri"/>
              </a:rPr>
              <a:t> ne ajuta sa punem in practica motto-ul nostru, prin formarea unei bune conduite sociale in randul tinerei generatii.”  declara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aniela Cirmaciu – Responsabil Comunicare si Mediu, Tetra Pak South Eastern Euro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logo"/>
          <p:cNvPicPr/>
          <p:nvPr/>
        </p:nvPicPr>
        <p:blipFill>
          <a:blip r:embed="rId3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Identitate vizual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2357280" y="5714640"/>
            <a:ext cx="6429600" cy="42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fise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Guerilla Verde –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 I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si a </a:t>
            </a:r>
            <a:r>
              <a:rPr b="0" lang="ro-RO" sz="2000" spc="-1" strike="noStrike">
                <a:solidFill>
                  <a:srgbClr val="000000"/>
                </a:solidFill>
                <a:latin typeface="Calibri"/>
              </a:rPr>
              <a:t>VI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-a editi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7" descr=""/>
          <p:cNvPicPr/>
          <p:nvPr/>
        </p:nvPicPr>
        <p:blipFill>
          <a:blip r:embed="rId2"/>
          <a:stretch/>
        </p:blipFill>
        <p:spPr>
          <a:xfrm>
            <a:off x="2071800" y="1071720"/>
            <a:ext cx="3095640" cy="4421160"/>
          </a:xfrm>
          <a:prstGeom prst="rect">
            <a:avLst/>
          </a:prstGeom>
          <a:ln w="9360">
            <a:solidFill>
              <a:srgbClr val="000000"/>
            </a:solidFill>
            <a:prstDash val="sysDot"/>
            <a:miter/>
          </a:ln>
        </p:spPr>
      </p:pic>
      <p:pic>
        <p:nvPicPr>
          <p:cNvPr id="70" name="Picture 10" descr="siglaguerilla.jpg"/>
          <p:cNvPicPr/>
          <p:nvPr/>
        </p:nvPicPr>
        <p:blipFill>
          <a:blip r:embed="rId3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AFIS A3 Guerilla.jpg"/>
          <p:cNvPicPr/>
          <p:nvPr/>
        </p:nvPicPr>
        <p:blipFill>
          <a:blip r:embed="rId5"/>
          <a:stretch/>
        </p:blipFill>
        <p:spPr>
          <a:xfrm>
            <a:off x="5500800" y="1214280"/>
            <a:ext cx="3000240" cy="42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928880" y="274320"/>
            <a:ext cx="6757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fr-CA" sz="28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 dupa 3 ani de la lansa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2214720" y="1643040"/>
            <a:ext cx="6757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6 editii organizate in cei 3 ani de la lansa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4. 100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de participanti - target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tineri, elevi, autoritati, presa, partener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filme proiectate, avand mesaj ecologic education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scol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licee si  14 universitati din toata ta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2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de oras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35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.000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materiale informative distribuit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152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parteneri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</a:rPr>
              <a:t>00 Facebook friend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550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aparitii media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(print, online, radio, TV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www.guerillaverde.ro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FaceBook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Twitt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8" descr="siglaguerilla.jpg"/>
          <p:cNvPicPr/>
          <p:nvPr/>
        </p:nvPicPr>
        <p:blipFill>
          <a:blip r:embed="rId4"/>
          <a:stretch/>
        </p:blipFill>
        <p:spPr>
          <a:xfrm>
            <a:off x="8001000" y="0"/>
            <a:ext cx="1143000" cy="439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logo"/>
          <p:cNvPicPr/>
          <p:nvPr/>
        </p:nvPicPr>
        <p:blipFill>
          <a:blip r:embed="rId5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 txBox="1"/>
          <p:nvPr/>
        </p:nvSpPr>
        <p:spPr>
          <a:xfrm>
            <a:off x="2143080" y="1285560"/>
            <a:ext cx="675792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erioada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februarie  – mai 2013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Obiectiv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determinarea tinerilor sa aiba initiative concrete pentru protectia mediului. Invitatia de participare la proiectiile de filme cu mesaj ecologic oferite de organizatori reprezinta punctul de pornire in acest sen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Desfasurar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 fiecare proiectie este insotita de dialogul dintre ONG-urile de mediu nationale si locale, care vor indruma tinerii catre un comportament ecologic corect si catre actiuni de voluntaria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Locatii: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unitatile de invatamant mediu si superior (scoli, licee, facultati)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, sali de cinema sau sali improvizate.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ccesul publicului este liber. </a:t>
            </a:r>
            <a:r>
              <a:rPr b="1" lang="ro-RO" sz="1600" spc="-1" strike="noStrike">
                <a:solidFill>
                  <a:srgbClr val="000000"/>
                </a:solidFill>
                <a:latin typeface="Calibri"/>
              </a:rPr>
              <a:t>In cadrul editiei din 2013 accesul publicului se va face in schimbul unei doze de aluminiu si/sau a unei baterii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Pe parcursul celei de-a treia editii a fost efectuat un sondaj privind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 comportamentul tinerilor fata de mediu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 Rezultatele 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sondajul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unt disponibile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aici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ro-RO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logo"/>
          <p:cNvPicPr/>
          <p:nvPr/>
        </p:nvPicPr>
        <p:blipFill>
          <a:blip r:embed="rId4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928880" y="1356840"/>
            <a:ext cx="637848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6000"/>
          </a:bodyPr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Traseu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caravana Guerilla Verde:  Bacau, Focsani, Buzau Ploiesti, Bucures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800" spc="-1" strike="noStrike">
                <a:solidFill>
                  <a:srgbClr val="000000"/>
                </a:solidFill>
                <a:latin typeface="Calibri"/>
              </a:rPr>
              <a:t>Filme :  </a:t>
            </a: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vor fi proiectate filme care au legatura cu tipul de deseu aflat in discutie – dozele de aluminiu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alibri"/>
              </a:rPr>
              <a:t>Printre filmele difuzate in editiile anterioare, se numara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15800" indent="-1598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10" descr="siglaguerilla.jpg"/>
          <p:cNvPicPr/>
          <p:nvPr/>
        </p:nvPicPr>
        <p:blipFill>
          <a:blip r:embed="rId2"/>
          <a:stretch/>
        </p:blipFill>
        <p:spPr>
          <a:xfrm>
            <a:off x="8215200" y="0"/>
            <a:ext cx="928800" cy="3571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No-impact-man"/>
          <p:cNvPicPr/>
          <p:nvPr/>
        </p:nvPicPr>
        <p:blipFill>
          <a:blip r:embed="rId3"/>
          <a:stretch/>
        </p:blipFill>
        <p:spPr>
          <a:xfrm>
            <a:off x="2187720" y="3286080"/>
            <a:ext cx="1527120" cy="222876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1"/>
          <p:cNvSpPr/>
          <p:nvPr/>
        </p:nvSpPr>
        <p:spPr>
          <a:xfrm>
            <a:off x="4452480" y="243000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548dd4"/>
                </a:solidFill>
                <a:latin typeface="Calibri"/>
                <a:ea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" descr="An Inconvenient Truth.jpg"/>
          <p:cNvPicPr/>
          <p:nvPr/>
        </p:nvPicPr>
        <p:blipFill>
          <a:blip r:embed="rId4"/>
          <a:stretch/>
        </p:blipFill>
        <p:spPr>
          <a:xfrm>
            <a:off x="4000680" y="3429000"/>
            <a:ext cx="1357200" cy="19288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" descr="The 11th Hour.jpg"/>
          <p:cNvPicPr/>
          <p:nvPr/>
        </p:nvPicPr>
        <p:blipFill>
          <a:blip r:embed="rId5"/>
          <a:stretch/>
        </p:blipFill>
        <p:spPr>
          <a:xfrm>
            <a:off x="5572080" y="3357720"/>
            <a:ext cx="1285920" cy="2062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Home.jpg"/>
          <p:cNvPicPr/>
          <p:nvPr/>
        </p:nvPicPr>
        <p:blipFill>
          <a:blip r:embed="rId6"/>
          <a:stretch/>
        </p:blipFill>
        <p:spPr>
          <a:xfrm>
            <a:off x="7120080" y="3357720"/>
            <a:ext cx="1380960" cy="20872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4438080" y="269676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4438080" y="505872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4438080" y="7421040"/>
            <a:ext cx="26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0" y="9896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0"/>
          <p:cNvSpPr/>
          <p:nvPr/>
        </p:nvSpPr>
        <p:spPr>
          <a:xfrm>
            <a:off x="3952800" y="5429160"/>
            <a:ext cx="1652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An Inconvenient Thru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1"/>
          <p:cNvSpPr/>
          <p:nvPr/>
        </p:nvSpPr>
        <p:spPr>
          <a:xfrm>
            <a:off x="2373480" y="5500800"/>
            <a:ext cx="114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No Impact 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2"/>
          <p:cNvSpPr/>
          <p:nvPr/>
        </p:nvSpPr>
        <p:spPr>
          <a:xfrm>
            <a:off x="5728320" y="5429160"/>
            <a:ext cx="1078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The 11th Ho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3"/>
          <p:cNvSpPr/>
          <p:nvPr/>
        </p:nvSpPr>
        <p:spPr>
          <a:xfrm>
            <a:off x="7512840" y="542916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H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2" descr="logo"/>
          <p:cNvPicPr/>
          <p:nvPr/>
        </p:nvPicPr>
        <p:blipFill>
          <a:blip r:embed="rId11"/>
          <a:stretch/>
        </p:blipFill>
        <p:spPr>
          <a:xfrm>
            <a:off x="8244000" y="6300720"/>
            <a:ext cx="900000" cy="557280"/>
          </a:xfrm>
          <a:prstGeom prst="rect">
            <a:avLst/>
          </a:prstGeom>
          <a:ln w="0">
            <a:noFill/>
          </a:ln>
        </p:spPr>
      </p:pic>
      <p:sp>
        <p:nvSpPr>
          <p:cNvPr id="99" name="Titre 1"/>
          <p:cNvSpPr/>
          <p:nvPr/>
        </p:nvSpPr>
        <p:spPr>
          <a:xfrm>
            <a:off x="1908000" y="333360"/>
            <a:ext cx="6758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CA" sz="2800" spc="-1" strike="noStrike">
                <a:solidFill>
                  <a:srgbClr val="000000"/>
                </a:solidFill>
                <a:latin typeface="Calibri"/>
              </a:rPr>
              <a:t>Guerilla Verde </a:t>
            </a:r>
            <a:r>
              <a:rPr b="0" i="1" lang="ro-RO" sz="2800" spc="-1" strike="noStrike">
                <a:solidFill>
                  <a:srgbClr val="000000"/>
                </a:solidFill>
                <a:latin typeface="Calibri"/>
              </a:rPr>
              <a:t>in </a:t>
            </a:r>
            <a:r>
              <a:rPr b="0" lang="ro-RO" sz="2800" spc="-1" strike="noStrike">
                <a:solidFill>
                  <a:srgbClr val="000000"/>
                </a:solidFill>
                <a:latin typeface="Calibri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1T19:52:38Z</dcterms:created>
  <dc:creator>Eric</dc:creator>
  <dc:description/>
  <dc:language>en-US</dc:language>
  <cp:lastModifiedBy>nic</cp:lastModifiedBy>
  <dcterms:modified xsi:type="dcterms:W3CDTF">2013-02-04T09:46:15Z</dcterms:modified>
  <cp:revision>328</cp:revision>
  <dc:subject/>
  <dc:title>PRESENTATION  NAME</dc:title>
</cp:coreProperties>
</file>