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5.jpeg" ContentType="image/jpeg"/>
  <Override PartName="/ppt/media/image50.png" ContentType="image/png"/>
  <Override PartName="/ppt/media/image42.png" ContentType="image/png"/>
  <Override PartName="/ppt/media/image28.png" ContentType="image/png"/>
  <Override PartName="/ppt/media/image38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41.png" ContentType="image/png"/>
  <Override PartName="/ppt/media/image48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1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4" y="0"/>
                </a:moveTo>
                <a:arcTo wR="4" hR="4" stAng="16200000" swAng="-5400000"/>
                <a:lnTo>
                  <a:pt x="0" y="31121"/>
                </a:lnTo>
                <a:arcTo wR="4" hR="4" stAng="10800000" swAng="-5400000"/>
                <a:lnTo>
                  <a:pt x="21596" y="3112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dt" idx="25"/>
          </p:nvPr>
        </p:nvSpPr>
        <p:spPr>
          <a:xfrm>
            <a:off x="40244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ldImg"/>
          </p:nvPr>
        </p:nvSpPr>
        <p:spPr>
          <a:xfrm>
            <a:off x="995040" y="768240"/>
            <a:ext cx="51116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152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26"/>
          </p:nvPr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975EA-89CA-486E-A0EF-68CADB7EF855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3FCBD-843E-424F-8D85-A428C089E36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esentation slide for courses, classes, lectures et 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991B0A-D300-45CB-826E-585312F6E0D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EA540-D58F-4DD4-BBDB-334A48616B3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E75F56-53B3-43B6-91CF-813749701E9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BB0D9-F356-475B-8A2E-44F352F5F8B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937C48-5D14-469C-800A-A71403045EE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4CA11-46CB-478A-8629-65500601C82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F5037A-ACB1-46A3-8EEA-7407D2253AD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17797-9E5B-4264-B7E7-51FB14BB8F9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C33410-AA83-45A8-8D8A-8A082DBDD8D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47F1D-5BA0-4052-84BC-AF6B35587DE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6C55CC-2455-4DE5-BDD5-18B8D619997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3F2D8-72EE-4819-B7A4-16C5839B408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139CD-E2C0-4843-BBBC-9D3D97A5F80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5CF69-23C9-4CC8-B3F3-95384549FB7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92995-7C89-45E7-8C08-D7C1DDBEE5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7E18B-E71B-4465-A866-6A23165E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34027-D751-4DA1-BC30-D0C385BE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9C1F2-215A-4F60-8045-5C328670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36A44-369E-495A-AEEC-0A5CB144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B94B0-4F45-45F8-9FBC-FABCCFBF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5F8A1-D0E2-4067-BEE8-7B470F7F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EE172-0289-4EE4-97FF-F35508DB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DCB31-941D-4651-8DA6-DA700B30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F6F18-B438-4B7E-9F48-7109B6E1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D0CB5-99BE-40DF-B7D4-9ED76A355A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1BF93A-6544-42C1-89A8-F050C0F9B8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75868-1C09-4C27-B3A7-021F1A83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0825D3-B979-48F2-A015-AE6BE870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ACDC7F-DB5A-4FCC-8A94-0B0F283C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9096C2-F0D8-4DA5-9D63-45AF90F8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37ACC3-BFA7-41AC-BD5E-9AD7E395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9AEC1F-5354-4FBD-94AC-D42F742A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9BE912-2473-4F88-AA59-023C8CAD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1329F2-F954-4581-B0FA-C82CA241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03AA39-0143-4CA4-83F0-57CF487A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F2DD78-9C10-4B54-AFDD-1F3F6FC6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E14020-D413-47FF-B361-C2C42F35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6EFA6-B741-452E-A3AC-C3F27E0F65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BC5EB9-858F-4D29-ADBB-B7A3B7B1DF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5989E2-A194-408B-89CB-39FACAC24E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68B83D-0C06-44B9-8F5B-313C3F01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84A7B3-EA04-46FC-A420-DDB4D2FA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29C9EC-7CD2-42A2-BC63-3EC15616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7351BC-EFF4-4150-8327-1FEDAB58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B551E4-BBB6-40C2-B2EA-A6CA9B3A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444AB1-4EA0-4FBC-B063-F8BD9244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75A9BB-505C-4BEB-89AF-5F5742C0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5ABCE7-EE92-4632-8C99-34F65B20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8133E-BADC-4DA9-B54B-B79C260470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54D7A0-DF9D-4630-A097-6B826494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C0D4BB-73F6-4B96-B64D-92C58915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5BA997-CA0B-4E6E-9C2C-599AC7E566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B4869-F44E-4F59-8795-0D6CD87159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AF027-0772-4BA1-946A-5E0EB080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97F42-A7B5-4975-A0E5-8B9106C5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0C864-B474-4771-9CC7-9531DE82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67EED-D208-4AF4-9C09-1B76FFF4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45491-3D5B-4C08-9787-1AFBFA40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2C272-CD3C-4C30-AD68-4697EC6B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9BBA9-60A2-4293-B54A-BAFB2F58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D1D59-8119-4286-B2C2-F2A58A5A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41A11-93DD-4730-B517-81FDE510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6C6A6-8FC9-4F2E-9FCB-19AC542B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937E1-6669-438F-BF75-94357C37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1405F-8119-4223-B5C9-49EBE8A0B4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EB6D3-38E8-4AC9-8EA8-20DF397B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6BE90-55CC-4DBA-ABDD-CF397AFC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C6BA8-A879-4647-B734-C8D69943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4498F-1530-4120-B9B2-884D16A0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DFA51-F904-41B1-9482-CC34DABD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260D5-24FA-4A7E-8C34-BE30DAA8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98718-7EB2-4769-ACDC-41D046E3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078C1-6F3B-475F-8BA7-EF574370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F7674-8583-4EB9-A047-9F3FA3A8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8824E-6CAC-4B6A-AEAA-40FF1470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3CB57-6F80-4937-99F5-3349190564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E513-40C0-480D-959D-6E92CB2C16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A468-9E0A-4B6D-A958-9531F015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131F-2A9A-4692-BE20-3CF503BA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C95C-1B4B-40CC-9026-DA70CAE4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2374-7F1F-43A9-A888-EDDF31ED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CE2E5-25E5-4FC1-A114-1FC7B07F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CAC5-180F-4A3E-9995-935FE8A6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8E82-CBD9-43E4-9DBC-08291A52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D0C4-4426-49FE-A0D5-FBDDDF70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A3BA-E79A-4732-BC70-90C8B1C3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E260-F624-4B94-868E-EE907FB8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4D07-1B90-4C04-86B3-4B0CF3D1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94EB-4B98-40EF-B414-B19FB4A634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92DA8-F3C4-46D2-AB71-43E10D049F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88118-E845-48DE-866F-5950EB41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3A4487-EC70-4494-8B6C-9BB61899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65D7C-6D71-4257-B18D-0E9771D7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31474-30D2-4213-B4A9-D5788050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460F2D-DA3E-4AAD-833C-110D3D53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0C14B-05CE-4F0D-BFF5-8B0AB0BA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D7D57-F807-484A-B7F3-3AF6FF0A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BF18C3-5823-4799-B0D6-E9FB4786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F8C793-7ED7-42AA-9C47-E12D9BDF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05450-94B2-4337-BA95-54E03B95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A964D-BFB8-4E57-A21D-1F063A9C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6059B-05A1-4BD2-9252-F8C70E25A9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DEEEAE-BA90-4565-9642-9A76B68DDB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2E2C6-3920-4CEA-94C2-AF56CBBF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56CC74-07F8-469E-8541-9DBFB22C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D6AC06-3CC1-40FE-9A82-1C23A187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02A374-0FAD-4992-B603-61936089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949155-E320-4D54-A927-45960877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5299B9-8DA5-4BDD-B6C2-AE50D356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1BF73A-D90E-46B3-B5B3-3076D805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C687B8-BE28-4388-8DC4-DA884493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5B84E3-674D-4123-911E-7DCC5C02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B0F9B8-38A7-4759-B8E8-4BF60BB2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1B2511-9DBB-4894-A4E6-9E8EBF95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C07C-5F84-40C6-BD2D-88A6DA64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145D00-E39E-4615-9266-680DC1CC9F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CAEB2-2EA1-4BEF-BDF1-C0B3ACCFF8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AEE14-E76A-4D3B-BB0A-22DE4F17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F58A6-80F1-4288-994D-7541D32C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9AC4D-E2DF-441F-87F1-13414527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DFF57-1BE2-4C3A-94E8-9697F57D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D9070-8F89-4433-AE5B-BECD9560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01CA2-9EE1-4674-8A84-127A286A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F1A20-7D75-4AC9-A325-5DA2226F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AD9FD-FED9-4F04-9232-0798D352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46A8C-4F7B-413E-A8B3-ECE2B334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ED47A-5FCF-4FE9-91DD-7CFEFA19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4C57C-6B51-4D28-AC40-8DA815C7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4D112-3CFD-4F00-B97A-8020EB2C58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70EB74-5703-43CE-95C3-CFE850FDC7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3F4AE4-44C5-448A-A58E-F938B374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F9B525-28D4-4802-BC52-F27EF491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C91739-AAD4-4737-A3B9-603670CE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6756C1-1BA6-4EE1-BF5E-38BDB215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CA7524-2F60-4ED2-95E3-4E01B01D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97C214-21E3-433B-8675-861F44B3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A48EA-6637-48BA-A4B6-E2AF29E6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C8DD23-BD9E-48FD-A968-77308E07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8AA29D-BB82-4AF5-A3DC-6EFB9600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773CAB-DC7E-4CFA-9562-C247A8AF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82A9A1-5B69-45B3-B0E6-96169D2F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79A539-FE54-4A6A-A607-C1A46FC667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B9F277-B76E-4CDB-BB17-42BC2A718B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F79351-0885-438C-96ED-CF719F9F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A5C361-1384-47F5-9BCC-4CF5DADA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675B9F-E3D4-41C6-8605-B91849F3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7BC81C-7E0A-4BFA-9D7F-5C6543A4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ED00A-C3BE-41AA-9905-8976986D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779FEB-1A44-4869-AEC7-F09FC2AF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5CE836-BE9C-4E16-BC4D-556DE18D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76B30C-F999-4B67-BC0F-E15F1BFE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AFEE05-6DE9-4FF3-A3EF-FBE1578B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9DF015-D10E-42B8-B5E9-08B0E3A8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2E0ED9-7089-4DFB-AB72-6B918BD8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DB2D9F-BF3A-40EA-AC86-93A75B1BB0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320E9-21B2-400D-A3E2-535C6D0D7B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8721B-02B6-4644-B377-BA3F68E7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86A3A-0BC2-4298-A643-9A53478B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880" y="6246360"/>
            <a:ext cx="266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1/30/13 09: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46720"/>
            <a:ext cx="54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-360" y="1209240"/>
            <a:ext cx="531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2C04A-B24E-4316-BEFC-5FF1AE4AF45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0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71BA3-8D9E-4BF6-AFCF-B53455C5B99D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2"/>
          </p:nvPr>
        </p:nvSpPr>
        <p:spPr>
          <a:xfrm>
            <a:off x="-360" y="1238040"/>
            <a:ext cx="531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4A6FD-81BB-42B6-8674-31CE72CE4F06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24"/>
          </p:nvPr>
        </p:nvSpPr>
        <p:spPr>
          <a:xfrm>
            <a:off x="6410160" y="-360"/>
            <a:ext cx="5320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95686-CF3F-4383-AD40-98AAC8BB9861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Arial"/>
              </a:rPr>
              <a:t>01/30/13 09: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94E13-70FE-49AF-9F11-AEDEEC8EE19B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B9C56-AD3B-46E5-9825-082EA70C1517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FD880-84AD-4E4E-B83C-7F184268F63F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AD880-EDAE-45FE-B4A0-85F56A44C79C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180EB-06FF-46EF-A949-C65E25E54633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D5D4A-9883-450C-8DB8-CF0B10002D26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CC5CEC-ADF0-4984-B643-39D5F05822B5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F2564-3B6C-4DBE-B982-C7D491EBAEEA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jpeg"/><Relationship Id="rId18" Type="http://schemas.openxmlformats.org/officeDocument/2006/relationships/image" Target="../media/image35.pn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jpe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jpeg"/><Relationship Id="rId31" Type="http://schemas.openxmlformats.org/officeDocument/2006/relationships/image" Target="../media/image48.jpe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slideLayout" Target="../slideLayouts/slideLayout85.xml"/><Relationship Id="rId3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"/>
          <p:cNvSpPr/>
          <p:nvPr/>
        </p:nvSpPr>
        <p:spPr>
          <a:xfrm>
            <a:off x="2193840" y="298440"/>
            <a:ext cx="6477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Asociaţia  </a:t>
            </a:r>
            <a:r>
              <a:rPr b="1" lang="en-US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Shakespeare School</a:t>
            </a: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 pentru Educaţ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5d6967"/>
                </a:solidFill>
                <a:latin typeface="Harlow Solid Italic"/>
              </a:rPr>
              <a:t>Essay Competi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228600" y="39528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7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1233360"/>
                <a:tab algn="l" pos="2147760"/>
                <a:tab algn="l" pos="3062160"/>
                <a:tab algn="l" pos="3976560"/>
                <a:tab algn="l" pos="4890960"/>
                <a:tab algn="l" pos="5805360"/>
                <a:tab algn="l" pos="6719760"/>
                <a:tab algn="l" pos="7634160"/>
                <a:tab algn="l" pos="8548560"/>
                <a:tab algn="l" pos="9462960"/>
                <a:tab algn="l" pos="1037736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Concurs national de creatie in limba englez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80880" y="6248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201</a:t>
            </a:r>
            <a:r>
              <a:rPr b="0" lang="ro-RO" sz="2000" spc="-1" strike="noStrike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527280" y="3429000"/>
            <a:ext cx="302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  </a:t>
            </a: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Februarie - Mai 20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52280" y="4495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1300" spc="-1" strike="noStrike">
                <a:solidFill>
                  <a:srgbClr val="5d6967"/>
                </a:solidFill>
                <a:latin typeface="Open Sans"/>
              </a:rPr>
              <a:t>Proiect inclus in Calendarul Activitatilor Educative al Inspectoratului Scolar al Municipiului Bucurest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6019920" y="6380280"/>
            <a:ext cx="304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500" spc="-1" strike="noStrike">
                <a:solidFill>
                  <a:srgbClr val="5d6967"/>
                </a:solidFill>
                <a:latin typeface="Open Sans"/>
              </a:rPr>
              <a:t>Write, race, win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11" descr="Logo Asociatia SS pentru Educatie_220.jpg"/>
          <p:cNvPicPr/>
          <p:nvPr/>
        </p:nvPicPr>
        <p:blipFill>
          <a:blip r:embed="rId2"/>
          <a:stretch/>
        </p:blipFill>
        <p:spPr>
          <a:xfrm>
            <a:off x="664380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285840" y="506736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1143000"/>
            <a:ext cx="43434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rganizat pe 2 categorii de varsta: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1-14 ani 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s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5-19 ani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, </a:t>
            </a: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u teme adecvate fiecarei grupe de varsta in pa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biective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creativitatii ca parte a procesului de life-long lear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gandirii creative si a sensibilitatii emotion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rgirea accesului tinerilor la exprimare crea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952880" y="1752480"/>
            <a:ext cx="388620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just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Vrem ca acest concurs să fie organizat anual, devenind astfel o </a:t>
            </a:r>
            <a:r>
              <a:rPr b="0" i="1" lang="ro-RO" sz="1600" spc="-1" strike="noStrike" u="sng">
                <a:solidFill>
                  <a:srgbClr val="5d6967"/>
                </a:solidFill>
                <a:uFillTx/>
                <a:latin typeface="Open Sans"/>
                <a:ea typeface="Open Sans"/>
              </a:rPr>
              <a:t>tradiţie</a:t>
            </a: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. An de an, vom oferi tinerilor creativi oportunitatea de a-si folosi talentul si imaginatia, punandu-si in valoare potentialul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380880" y="212760"/>
            <a:ext cx="4496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600" spc="-1" strike="noStrike">
                <a:solidFill>
                  <a:srgbClr val="70215f"/>
                </a:solidFill>
                <a:latin typeface="Open Sans"/>
                <a:ea typeface="Open Sans"/>
              </a:rPr>
              <a:t>Despre concu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533520" y="4343400"/>
            <a:ext cx="4647960" cy="7786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o-RO" sz="1500" spc="-1" strike="noStrike">
                <a:solidFill>
                  <a:srgbClr val="5d6967"/>
                </a:solidFill>
                <a:latin typeface="Open Sans"/>
              </a:rPr>
              <a:t>Incercam sa iesim din sabloane, din testele grila pentru a-i incuraja pe copii si tineri sa gandeasca, sa inoveze, sa  creeze ... in limba lui Shakespeare!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550440" y="6411960"/>
            <a:ext cx="78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</a:rPr>
              <a:t>Participarea este gratuita si deschisa tuturor tinerilor din Roman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9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508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500040" y="5286240"/>
            <a:ext cx="3432240" cy="1071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1"/>
          <p:cNvSpPr/>
          <p:nvPr/>
        </p:nvSpPr>
        <p:spPr>
          <a:xfrm>
            <a:off x="380880" y="372960"/>
            <a:ext cx="81536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 in Cifre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2009 -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655560" y="1317600"/>
            <a:ext cx="73915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2 tiner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 cu scoli de vara la Cambridge, Oxf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44 tineri finalist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ursuri gratuite la Shakespeare Schoo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Taxe de examen Cambridge oferite de British Counci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arti, dictionare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13.500 eseuri inscrise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in cele 4 edit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Au participat tineri din </a:t>
            </a: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 din Romania: 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0" lang="ro-RO" sz="1400" spc="-1" strike="noStrike">
                <a:solidFill>
                  <a:srgbClr val="70215f"/>
                </a:solidFill>
                <a:latin typeface="Open Sans"/>
                <a:ea typeface="Open Sans"/>
              </a:rPr>
              <a:t>Bucuresti, Cluj-Napoca, Craiova, Focsani, Galati ,Hateg, Iasi, Oradea, Pascani, Petrosani, Piatra Neamt, Pitesti, Ploiesti, Ramnicu Valcea, Roman, Rosiori de Vede, Sibiu, Sighetul Marmatiei, Suceava, Targoviste,Tecuci,Urzic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5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795240" y="492912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380880" y="220680"/>
            <a:ext cx="4191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Povesti de Succes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380880" y="2590920"/>
            <a:ext cx="5715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“</a:t>
            </a: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ot zice cu mana pe inima ca ESSAY COMPETITION mi-a schimbat atat viitorul cat si perspectiva mea asupra lumii.”  </a:t>
            </a:r>
            <a:r>
              <a:rPr b="0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Mircea Nei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Mircea Neicu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este un tanar din Orsova care nu depasise niciodata granitele Romaniei  si caruia premiul de la Essay Competition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deschis porti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 si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schimbat drumul in viata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lasandu-se pe locul I a castigat o tabara de engle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Universitatea Cambri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articiparea la tabara de vara i-a sporit increderea in fortele propr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a aplicat apoi la mai multe facultati din Marea Britanie si acum studia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ncaster 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2743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64380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1214280"/>
            <a:ext cx="4214520" cy="131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304920" y="763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400" spc="-1" strike="noStrike">
                <a:solidFill>
                  <a:srgbClr val="70215f"/>
                </a:solidFill>
                <a:latin typeface="Open Sans"/>
                <a:ea typeface="Open Sans"/>
              </a:rPr>
              <a:t>Prima editie (200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304920" y="2286000"/>
            <a:ext cx="4267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mai 2009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, sub egida Anului European al Creativitatii si Inova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este 200 eseuri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Capitala si din toata t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r>
              <a:rPr b="0" lang="ro-RO" sz="2400" spc="-1" strike="noStrike">
                <a:solidFill>
                  <a:srgbClr val="595959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4800600" y="2209680"/>
            <a:ext cx="4191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e la Suceava la Corabia, din Maramures pana la Faurei, Buzau, Brasov, Cluj, Arad, Constanta, Craiova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: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British Council, Radio Romania Actualitati, Radio Itsy Bitsy, TVR Cultural, Studentie.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6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500040" y="857160"/>
            <a:ext cx="4357800" cy="1360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"/>
          <p:cNvSpPr/>
          <p:nvPr/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doua editie (201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304920" y="2209680"/>
            <a:ext cx="4267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martie 201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3100 de eseuri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Scoli de vara de limba engleza in UK – Cambridge si Oxford (in valoare de peste 1500 eur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4648320" y="220968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22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Sprijin: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British Council, Inspectoratele scolare, asociatiile de profeso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media</a:t>
            </a:r>
            <a:r>
              <a:rPr b="0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018040" y="6121440"/>
            <a:ext cx="1306440" cy="431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6496200" y="6076800"/>
            <a:ext cx="1504800" cy="476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4854600" y="4896000"/>
            <a:ext cx="1174680" cy="514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"/>
          <p:cNvPicPr/>
          <p:nvPr/>
        </p:nvPicPr>
        <p:blipFill>
          <a:blip r:embed="rId5"/>
          <a:stretch/>
        </p:blipFill>
        <p:spPr>
          <a:xfrm>
            <a:off x="6095880" y="50292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6"/>
          <a:stretch/>
        </p:blipFill>
        <p:spPr>
          <a:xfrm>
            <a:off x="7162920" y="4933800"/>
            <a:ext cx="1730160" cy="438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"/>
          <p:cNvPicPr/>
          <p:nvPr/>
        </p:nvPicPr>
        <p:blipFill>
          <a:blip r:embed="rId7"/>
          <a:stretch/>
        </p:blipFill>
        <p:spPr>
          <a:xfrm>
            <a:off x="5029200" y="5495760"/>
            <a:ext cx="1247760" cy="5241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" descr=""/>
          <p:cNvPicPr/>
          <p:nvPr/>
        </p:nvPicPr>
        <p:blipFill>
          <a:blip r:embed="rId8"/>
          <a:stretch/>
        </p:blipFill>
        <p:spPr>
          <a:xfrm>
            <a:off x="6400800" y="5562720"/>
            <a:ext cx="1219320" cy="380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1" descr=""/>
          <p:cNvPicPr/>
          <p:nvPr/>
        </p:nvPicPr>
        <p:blipFill>
          <a:blip r:embed="rId9"/>
          <a:stretch/>
        </p:blipFill>
        <p:spPr>
          <a:xfrm>
            <a:off x="7696080" y="5572080"/>
            <a:ext cx="1054080" cy="371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4" descr="Logo Asociatia SS pentru Educatie_220.jpg"/>
          <p:cNvPicPr/>
          <p:nvPr/>
        </p:nvPicPr>
        <p:blipFill>
          <a:blip r:embed="rId10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4" descr="Banner Orizontal Essay_Logo Asociatie_lowQ.png"/>
          <p:cNvPicPr/>
          <p:nvPr/>
        </p:nvPicPr>
        <p:blipFill>
          <a:blip r:embed="rId11"/>
          <a:stretch/>
        </p:blipFill>
        <p:spPr>
          <a:xfrm>
            <a:off x="285840" y="785880"/>
            <a:ext cx="4214880" cy="1315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treia editie (201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52280" y="22860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5111 de eseuri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in limba englez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primite de la tineri din intreaga tar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4 scoli de vara de limba engleza in UK: Cambridge si Oxford (in valoare de peste 1500 euro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in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3960720" y="1981080"/>
            <a:ext cx="4954680" cy="4876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777960"/>
            <a:ext cx="4143240" cy="1293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1"/>
          <p:cNvSpPr/>
          <p:nvPr/>
        </p:nvSpPr>
        <p:spPr>
          <a:xfrm>
            <a:off x="304920" y="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patra editie (201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209680"/>
            <a:ext cx="381024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Peste 4100 de eseuri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scoli de vara de limba engleza in UK: </a:t>
            </a:r>
            <a:r>
              <a:rPr b="1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ambridge, Oxford, Clifton College, Harrow House </a:t>
            </a: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(in valoare de peste 1500 lire fiecare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</a:t>
            </a:r>
            <a:r>
              <a:rPr b="1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 </a:t>
            </a:r>
            <a:r>
              <a:rPr b="0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este 350 de localitat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2"/>
          <a:stretch/>
        </p:blipFill>
        <p:spPr>
          <a:xfrm>
            <a:off x="3962520" y="2039760"/>
            <a:ext cx="4952880" cy="4361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357120" y="857160"/>
            <a:ext cx="3889440" cy="1214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2013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89600" y="142920"/>
            <a:ext cx="2068560" cy="1071360"/>
          </a:xfrm>
          <a:prstGeom prst="rect">
            <a:avLst/>
          </a:prstGeom>
          <a:ln w="0">
            <a:noFill/>
          </a:ln>
        </p:spPr>
      </p:pic>
      <p:grpSp>
        <p:nvGrpSpPr>
          <p:cNvPr id="590" name="TextBox 5"/>
          <p:cNvGrpSpPr/>
          <p:nvPr/>
        </p:nvGrpSpPr>
        <p:grpSpPr>
          <a:xfrm>
            <a:off x="208080" y="1066680"/>
            <a:ext cx="6583320" cy="365400"/>
            <a:chOff x="208080" y="1066680"/>
            <a:chExt cx="6583320" cy="365400"/>
          </a:xfrm>
        </p:grpSpPr>
        <p:pic>
          <p:nvPicPr>
            <p:cNvPr id="591" name="TextBox 5" descr=""/>
            <p:cNvPicPr/>
            <p:nvPr/>
          </p:nvPicPr>
          <p:blipFill>
            <a:blip r:embed="rId3"/>
            <a:stretch/>
          </p:blipFill>
          <p:spPr>
            <a:xfrm>
              <a:off x="208080" y="1066680"/>
              <a:ext cx="658332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214200" y="1071720"/>
              <a:ext cx="6572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Educationali &amp; Sponsori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3" name="Picture 6" descr="harrow.jpg"/>
          <p:cNvPicPr/>
          <p:nvPr/>
        </p:nvPicPr>
        <p:blipFill>
          <a:blip r:embed="rId4"/>
          <a:stretch/>
        </p:blipFill>
        <p:spPr>
          <a:xfrm>
            <a:off x="357120" y="1571760"/>
            <a:ext cx="1343160" cy="1357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british council_2.jpg"/>
          <p:cNvPicPr/>
          <p:nvPr/>
        </p:nvPicPr>
        <p:blipFill>
          <a:blip r:embed="rId5"/>
          <a:stretch/>
        </p:blipFill>
        <p:spPr>
          <a:xfrm>
            <a:off x="1657440" y="1571760"/>
            <a:ext cx="1842840" cy="8650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fischer.jpg"/>
          <p:cNvPicPr/>
          <p:nvPr/>
        </p:nvPicPr>
        <p:blipFill>
          <a:blip r:embed="rId6"/>
          <a:stretch/>
        </p:blipFill>
        <p:spPr>
          <a:xfrm>
            <a:off x="3500280" y="1643040"/>
            <a:ext cx="1738440" cy="7142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carturesti.jpg"/>
          <p:cNvPicPr/>
          <p:nvPr/>
        </p:nvPicPr>
        <p:blipFill>
          <a:blip r:embed="rId7"/>
          <a:stretch/>
        </p:blipFill>
        <p:spPr>
          <a:xfrm>
            <a:off x="5416560" y="1500120"/>
            <a:ext cx="1512720" cy="857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editura humanitas.png"/>
          <p:cNvPicPr/>
          <p:nvPr/>
        </p:nvPicPr>
        <p:blipFill>
          <a:blip r:embed="rId8"/>
          <a:stretch/>
        </p:blipFill>
        <p:spPr>
          <a:xfrm>
            <a:off x="357120" y="3143160"/>
            <a:ext cx="2143080" cy="3826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fnapip_logo_smaller_200.png"/>
          <p:cNvPicPr/>
          <p:nvPr/>
        </p:nvPicPr>
        <p:blipFill>
          <a:blip r:embed="rId9"/>
          <a:stretch/>
        </p:blipFill>
        <p:spPr>
          <a:xfrm>
            <a:off x="5929200" y="2571840"/>
            <a:ext cx="1198800" cy="1103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simaco.jpg"/>
          <p:cNvPicPr/>
          <p:nvPr/>
        </p:nvPicPr>
        <p:blipFill>
          <a:blip r:embed="rId10"/>
          <a:stretch/>
        </p:blipFill>
        <p:spPr>
          <a:xfrm>
            <a:off x="4071960" y="2852640"/>
            <a:ext cx="1714320" cy="647640"/>
          </a:xfrm>
          <a:prstGeom prst="rect">
            <a:avLst/>
          </a:prstGeom>
          <a:ln w="0">
            <a:noFill/>
          </a:ln>
        </p:spPr>
      </p:pic>
      <p:grpSp>
        <p:nvGrpSpPr>
          <p:cNvPr id="600" name="TextBox 14"/>
          <p:cNvGrpSpPr/>
          <p:nvPr/>
        </p:nvGrpSpPr>
        <p:grpSpPr>
          <a:xfrm>
            <a:off x="281160" y="3786120"/>
            <a:ext cx="6583320" cy="365040"/>
            <a:chOff x="281160" y="3786120"/>
            <a:chExt cx="6583320" cy="365040"/>
          </a:xfrm>
        </p:grpSpPr>
        <p:pic>
          <p:nvPicPr>
            <p:cNvPr id="601" name="TextBox 14" descr=""/>
            <p:cNvPicPr/>
            <p:nvPr/>
          </p:nvPicPr>
          <p:blipFill>
            <a:blip r:embed="rId11"/>
            <a:stretch/>
          </p:blipFill>
          <p:spPr>
            <a:xfrm>
              <a:off x="281160" y="3786120"/>
              <a:ext cx="65833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85840" y="3789360"/>
              <a:ext cx="6572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Media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3" name="Picture 15" descr="Logo Learning About.png"/>
          <p:cNvPicPr/>
          <p:nvPr/>
        </p:nvPicPr>
        <p:blipFill>
          <a:blip r:embed="rId12"/>
          <a:stretch/>
        </p:blipFill>
        <p:spPr>
          <a:xfrm>
            <a:off x="7286760" y="2786040"/>
            <a:ext cx="1500120" cy="479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6" descr="Logo ISMB.png"/>
          <p:cNvPicPr/>
          <p:nvPr/>
        </p:nvPicPr>
        <p:blipFill>
          <a:blip r:embed="rId13"/>
          <a:stretch/>
        </p:blipFill>
        <p:spPr>
          <a:xfrm>
            <a:off x="7000920" y="1523880"/>
            <a:ext cx="1571760" cy="11192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5" descr="Logo KissFM lowQ.png"/>
          <p:cNvPicPr/>
          <p:nvPr/>
        </p:nvPicPr>
        <p:blipFill>
          <a:blip r:embed="rId14"/>
          <a:stretch/>
        </p:blipFill>
        <p:spPr>
          <a:xfrm>
            <a:off x="357120" y="4357800"/>
            <a:ext cx="870120" cy="714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logo Digi24.png"/>
          <p:cNvPicPr/>
          <p:nvPr/>
        </p:nvPicPr>
        <p:blipFill>
          <a:blip r:embed="rId15"/>
          <a:stretch/>
        </p:blipFill>
        <p:spPr>
          <a:xfrm>
            <a:off x="1428840" y="4286160"/>
            <a:ext cx="857160" cy="838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7" descr="Logo ItsyBitsy.png"/>
          <p:cNvPicPr/>
          <p:nvPr/>
        </p:nvPicPr>
        <p:blipFill>
          <a:blip r:embed="rId16"/>
          <a:stretch/>
        </p:blipFill>
        <p:spPr>
          <a:xfrm>
            <a:off x="2357280" y="4286160"/>
            <a:ext cx="1571760" cy="7239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8" descr="Adevărul-logo.jpg"/>
          <p:cNvPicPr/>
          <p:nvPr/>
        </p:nvPicPr>
        <p:blipFill>
          <a:blip r:embed="rId17"/>
          <a:stretch/>
        </p:blipFill>
        <p:spPr>
          <a:xfrm>
            <a:off x="4071960" y="4500720"/>
            <a:ext cx="1608120" cy="428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9" descr="Logo Bravo_png.png"/>
          <p:cNvPicPr/>
          <p:nvPr/>
        </p:nvPicPr>
        <p:blipFill>
          <a:blip r:embed="rId18"/>
          <a:stretch/>
        </p:blipFill>
        <p:spPr>
          <a:xfrm>
            <a:off x="5715000" y="4484520"/>
            <a:ext cx="1643040" cy="4748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1" descr="LOGO RRC ALB MARE_220px.jpg"/>
          <p:cNvPicPr/>
          <p:nvPr/>
        </p:nvPicPr>
        <p:blipFill>
          <a:blip r:embed="rId19"/>
          <a:stretch/>
        </p:blipFill>
        <p:spPr>
          <a:xfrm>
            <a:off x="311040" y="5286240"/>
            <a:ext cx="1332000" cy="7146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2" descr="logo-romaniapozitia 2010.jpg"/>
          <p:cNvPicPr/>
          <p:nvPr/>
        </p:nvPicPr>
        <p:blipFill>
          <a:blip r:embed="rId20"/>
          <a:stretch/>
        </p:blipFill>
        <p:spPr>
          <a:xfrm>
            <a:off x="1643040" y="5316480"/>
            <a:ext cx="1500120" cy="612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3" descr="sigla-mediafax_220.jpg"/>
          <p:cNvPicPr/>
          <p:nvPr/>
        </p:nvPicPr>
        <p:blipFill>
          <a:blip r:embed="rId21"/>
          <a:stretch/>
        </p:blipFill>
        <p:spPr>
          <a:xfrm>
            <a:off x="3214800" y="5357880"/>
            <a:ext cx="1571400" cy="428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4" descr="logo.png.png"/>
          <p:cNvPicPr/>
          <p:nvPr/>
        </p:nvPicPr>
        <p:blipFill>
          <a:blip r:embed="rId22"/>
          <a:stretch/>
        </p:blipFill>
        <p:spPr>
          <a:xfrm>
            <a:off x="4929120" y="5357880"/>
            <a:ext cx="1643040" cy="3934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5" descr="teen press.png"/>
          <p:cNvPicPr/>
          <p:nvPr/>
        </p:nvPicPr>
        <p:blipFill>
          <a:blip r:embed="rId23"/>
          <a:stretch/>
        </p:blipFill>
        <p:spPr>
          <a:xfrm>
            <a:off x="6715080" y="5214960"/>
            <a:ext cx="1143000" cy="5526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7" descr="calificativ.png"/>
          <p:cNvPicPr/>
          <p:nvPr/>
        </p:nvPicPr>
        <p:blipFill>
          <a:blip r:embed="rId24"/>
          <a:stretch/>
        </p:blipFill>
        <p:spPr>
          <a:xfrm>
            <a:off x="2428920" y="6072120"/>
            <a:ext cx="1515960" cy="285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8" descr="Logo AmDoar18Ani_lowQ.png"/>
          <p:cNvPicPr/>
          <p:nvPr/>
        </p:nvPicPr>
        <p:blipFill>
          <a:blip r:embed="rId25"/>
          <a:stretch/>
        </p:blipFill>
        <p:spPr>
          <a:xfrm>
            <a:off x="428760" y="6215040"/>
            <a:ext cx="1785960" cy="328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0" descr="Logo Mamica Urbana.png"/>
          <p:cNvPicPr/>
          <p:nvPr/>
        </p:nvPicPr>
        <p:blipFill>
          <a:blip r:embed="rId26"/>
          <a:stretch/>
        </p:blipFill>
        <p:spPr>
          <a:xfrm>
            <a:off x="4143240" y="5929200"/>
            <a:ext cx="857520" cy="811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1" descr="Logo_Copilul_small.jpg"/>
          <p:cNvPicPr/>
          <p:nvPr/>
        </p:nvPicPr>
        <p:blipFill>
          <a:blip r:embed="rId27"/>
          <a:stretch/>
        </p:blipFill>
        <p:spPr>
          <a:xfrm>
            <a:off x="5072040" y="5929200"/>
            <a:ext cx="1182600" cy="6987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2" descr="Logo 7Seri_lowQ.png"/>
          <p:cNvPicPr/>
          <p:nvPr/>
        </p:nvPicPr>
        <p:blipFill>
          <a:blip r:embed="rId28"/>
          <a:stretch/>
        </p:blipFill>
        <p:spPr>
          <a:xfrm>
            <a:off x="6286680" y="6215040"/>
            <a:ext cx="1500120" cy="214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3" descr="logo PRwave pe alb_220.tif"/>
          <p:cNvPicPr/>
          <p:nvPr/>
        </p:nvPicPr>
        <p:blipFill>
          <a:blip r:embed="rId29"/>
          <a:stretch/>
        </p:blipFill>
        <p:spPr>
          <a:xfrm>
            <a:off x="7448400" y="4572000"/>
            <a:ext cx="1266840" cy="357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5" descr="logo_young initiative_150.jpg"/>
          <p:cNvPicPr/>
          <p:nvPr/>
        </p:nvPicPr>
        <p:blipFill>
          <a:blip r:embed="rId30"/>
          <a:stretch/>
        </p:blipFill>
        <p:spPr>
          <a:xfrm>
            <a:off x="7929720" y="5143680"/>
            <a:ext cx="974520" cy="6426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6" descr="Logo_Bucharest-Nightlife_small.jpg"/>
          <p:cNvPicPr/>
          <p:nvPr/>
        </p:nvPicPr>
        <p:blipFill>
          <a:blip r:embed="rId31"/>
          <a:stretch/>
        </p:blipFill>
        <p:spPr>
          <a:xfrm>
            <a:off x="2571840" y="6429240"/>
            <a:ext cx="1230120" cy="271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8" descr="Logo Blogul Mamei Incepatoare_lowQ.png"/>
          <p:cNvPicPr/>
          <p:nvPr/>
        </p:nvPicPr>
        <p:blipFill>
          <a:blip r:embed="rId32"/>
          <a:stretch/>
        </p:blipFill>
        <p:spPr>
          <a:xfrm>
            <a:off x="7929720" y="5919840"/>
            <a:ext cx="857160" cy="587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3" descr="logo Transylvania College.png"/>
          <p:cNvPicPr/>
          <p:nvPr/>
        </p:nvPicPr>
        <p:blipFill>
          <a:blip r:embed="rId33"/>
          <a:stretch/>
        </p:blipFill>
        <p:spPr>
          <a:xfrm>
            <a:off x="2714760" y="2571840"/>
            <a:ext cx="1071360" cy="104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08:09:06Z</dcterms:created>
  <dc:creator>Shakespeare</dc:creator>
  <dc:description/>
  <dc:language>en-US</dc:language>
  <cp:lastModifiedBy>Shakespeare</cp:lastModifiedBy>
  <dcterms:modified xsi:type="dcterms:W3CDTF">2013-02-04T14:48:13Z</dcterms:modified>
  <cp:revision>89</cp:revision>
  <dc:subject/>
  <dc:title>Totul despre examenele Trinity si Cambrid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